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4206-5434-4E1D-81DD-BB9CCE8A42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03DA-99BB-42C2-9A1A-6987FBD5C2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E4F7-78BC-47C3-832D-F9E8B5B7269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6FB7-444B-4656-BDA1-E54811CD63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A33F-36EE-4508-8F96-0FF02CC4E8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FEAC-DA49-403A-B650-1F98C3AB3A5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738D-A125-4BEB-956F-89CA478102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F4E8-9455-4699-B6EB-0598B1665A8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07DD-3AFA-44F4-B1CA-13A73DBF33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EA6A-D72D-495E-AD04-20EFCDA9B1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45B3-A83C-42E4-9A4D-D30F0496F1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7ABC-4A10-45AA-8349-7C99AFA4EC8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0F23-FABB-49D6-BC95-B128BF5E65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64F0-F939-4BAA-ABFA-A424EFD24A5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4C44-1582-4624-AF09-971503C368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BA3E-CCD4-4114-AFE7-26A80733FC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2E3C-FCB7-4815-9917-0F2BC001BA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6A49-D32A-447A-8C62-9BA33829D75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1D27-DF5A-4A90-B1CE-0D03D37CAB4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C961-D5AA-47F0-A60F-78083AF111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419B-4EB4-4481-ABE0-91F6DA113D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5ACF-4FD4-40D5-BF3E-A46AD033EB2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A5ED-2520-452A-A8B2-4BAFE526A85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DBB1-5BE9-40A7-BC04-B9221704955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3307-E7D3-4DFC-BBA7-1E4C123F670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16DF-BA4E-4377-BEAB-A631A7A34F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4C0D-AAFF-4182-B560-41B61EC808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5C95-7E35-4C49-9797-8E3BBCFBD8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B4A1-DDD2-42F0-9101-F11A0B8989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9CAA-CBB9-46AD-B634-AF6054D9880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04CF-321B-4BBE-9000-7BD25231052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9DB0-A7BE-459A-BF59-996A4666EF1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754B-E344-4CA6-8EE9-1C1D80F679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25FC-5BCD-4258-91F2-14D58E0B8E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E43-5998-4E1D-BDE0-A45FAC780F1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5AB3-2778-44F5-9F8A-3897A3F9CA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8F49-75BE-4A17-B6AC-6DC5DA8ED6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D88F-E0E0-4B91-9D90-56F5B7D05F2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A73A-61C9-4F49-9B6B-43BFDC530E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2BDA-A5E8-4007-91A8-A6DFF23CE9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E87C-975F-401A-8CA0-415466BAE7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FF54-7DAC-4D0A-9DAF-19AF251B60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9770-64DC-4EE0-BD04-DBA758EFE0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714680" y="106380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F86-FE0F-43B7-AD8E-DA2566C5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0EE-4D8D-481C-AF10-A089B16E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A8C-E4C4-4199-B5D0-DD64777B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4FD-5CA7-46D3-B953-2F17D8F4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2133-AAB8-43D4-AA24-16F2629F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3643-3586-42AC-9559-967CA3CF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2CDF-75DB-411D-98B9-377199A0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03DA-1834-4AEE-8F5C-D52642F1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8BC3-5683-4F95-99D8-B7046B59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C4E4-1AF1-4EB6-95CA-16B535A2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A2CE-8728-4EBD-905A-605EC055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D2B-A5E3-411D-8310-B8EDC94C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5533-9A03-4604-A1EB-C516D01C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64DB-CAA2-4D67-A8C2-C9B05014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A163-4B91-4E8E-B607-DBA2B878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2350-B681-46DE-B7AE-5570D8D0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0F59-BD47-44A3-9898-36E02D8A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7CC-1A0A-416F-8E70-2EA19393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064-3B28-40E5-B789-B8DDDCEE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197-D1E2-457C-927D-A31C8F73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58E-A27B-41C1-BE89-B10F0B97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64C-90CA-4657-8258-F5A1BAB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EA8-DCEE-4842-BA16-80248424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DBC-76F5-4CDC-BEE7-2D53B569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137B-2FDF-4D51-8CFB-C8E4673BC3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4DBC-6054-4BB3-9041-DB30B57692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ct"/><Relationship Id="rId4" Type="http://schemas.openxmlformats.org/officeDocument/2006/relationships/image" Target="../media/image6.pct"/><Relationship Id="rId5" Type="http://schemas.openxmlformats.org/officeDocument/2006/relationships/image" Target="../media/image6.pct"/><Relationship Id="rId6" Type="http://schemas.openxmlformats.org/officeDocument/2006/relationships/image" Target="../media/image6.pct"/><Relationship Id="rId7" Type="http://schemas.openxmlformats.org/officeDocument/2006/relationships/image" Target="../media/image6.pct"/><Relationship Id="rId8" Type="http://schemas.openxmlformats.org/officeDocument/2006/relationships/image" Target="../media/image6.pct"/><Relationship Id="rId9" Type="http://schemas.openxmlformats.org/officeDocument/2006/relationships/image" Target="../media/image6.pct"/><Relationship Id="rId10" Type="http://schemas.openxmlformats.org/officeDocument/2006/relationships/image" Target="../media/image6.pct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24000" y="46479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3272040" cy="4108320"/>
          </a:xfrm>
          <a:prstGeom prst="rect">
            <a:avLst/>
          </a:prstGeom>
          <a:ln w="0">
            <a:noFill/>
          </a:ln>
        </p:spPr>
      </p:pic>
      <p:pic>
        <p:nvPicPr>
          <p:cNvPr id="99" name="Bild 7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00" name="Bild 8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1" name="Bild 9" descr=""/>
          <p:cNvPicPr/>
          <p:nvPr/>
        </p:nvPicPr>
        <p:blipFill>
          <a:blip r:embed="rId4"/>
          <a:stretch/>
        </p:blipFill>
        <p:spPr>
          <a:xfrm>
            <a:off x="533520" y="18032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Bild 10" descr=""/>
          <p:cNvPicPr/>
          <p:nvPr/>
        </p:nvPicPr>
        <p:blipFill>
          <a:blip r:embed="rId5"/>
          <a:stretch/>
        </p:blipFill>
        <p:spPr>
          <a:xfrm>
            <a:off x="132084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Bild 11" descr=""/>
          <p:cNvPicPr/>
          <p:nvPr/>
        </p:nvPicPr>
        <p:blipFill>
          <a:blip r:embed="rId6"/>
          <a:stretch/>
        </p:blipFill>
        <p:spPr>
          <a:xfrm>
            <a:off x="1981080" y="9144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4" name="Bild 12" descr=""/>
          <p:cNvPicPr/>
          <p:nvPr/>
        </p:nvPicPr>
        <p:blipFill>
          <a:blip r:embed="rId7"/>
          <a:stretch/>
        </p:blipFill>
        <p:spPr>
          <a:xfrm>
            <a:off x="228600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5" name="Bild 13" descr=""/>
          <p:cNvPicPr/>
          <p:nvPr/>
        </p:nvPicPr>
        <p:blipFill>
          <a:blip r:embed="rId8"/>
          <a:stretch/>
        </p:blipFill>
        <p:spPr>
          <a:xfrm>
            <a:off x="106668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6" name="Bild 14" descr=""/>
          <p:cNvPicPr/>
          <p:nvPr/>
        </p:nvPicPr>
        <p:blipFill>
          <a:blip r:embed="rId9"/>
          <a:stretch/>
        </p:blipFill>
        <p:spPr>
          <a:xfrm>
            <a:off x="1371600" y="2286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7" name="Bild 15" descr=""/>
          <p:cNvPicPr/>
          <p:nvPr/>
        </p:nvPicPr>
        <p:blipFill>
          <a:blip r:embed="rId10"/>
          <a:stretch/>
        </p:blipFill>
        <p:spPr>
          <a:xfrm>
            <a:off x="2057400" y="26161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chach 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 der Erfahrung i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egebene Situationen oder selbst erzeug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mit oder ohne Lehr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as Spiel (z.B. Eröffnungen oder Endspiel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Wie repräsentativ ist die Trainingserfahrung in Bezug auf das Lernzi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u lernenden Funktion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auswah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ettauswert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svergle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x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ale Funktion V, angenäherte Funktion V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 des Lernprozesses: Annäherung von V‘ an das optimale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Schach spielen - Zielfunk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520" y="1197000"/>
            <a:ext cx="817884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S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t korrekte und optimale Werte, aber praktisch nicht berechenbar, da zu auf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d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mlung von Regel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ronales Ne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ynome (z.B. linear, quadratisch) der Brettmerkm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handen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3/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droht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5/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iße/schwarze Offiz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5600" y="4552920"/>
                <a:ext cx="80946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Schach spielen - Lern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371600"/>
            <a:ext cx="817884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man trainie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 zu lernend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‘ bisher gelernt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Trainings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, Trainingsbeispiel festzule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V‘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achfolg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re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hode der kleinsten Quadrate (Least Mean Square,LM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fällige Auswahl einer Brettsituation b mit bekanntem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rberechnung für die Situ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error(b) :=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- V‘(b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Feature werden die Gewichte angepaß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=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rror(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eine kleine Lernrate (kons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43000" y="5943600"/>
            <a:ext cx="30481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rtiges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080" y="1052640"/>
            <a:ext cx="8687880" cy="1294920"/>
            <a:chOff x="-1080" y="1052640"/>
            <a:chExt cx="8687880" cy="1294920"/>
          </a:xfrm>
        </p:grpSpPr>
        <p:sp>
          <p:nvSpPr>
            <p:cNvPr id="148" name="AutoShape 4"/>
            <p:cNvSpPr/>
            <p:nvPr/>
          </p:nvSpPr>
          <p:spPr>
            <a:xfrm>
              <a:off x="3124080" y="1052640"/>
              <a:ext cx="3124080" cy="609480"/>
            </a:xfrm>
            <a:prstGeom prst="flowChartAlternateProcess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Art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erfah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 flipH="1">
              <a:off x="685800" y="1662120"/>
              <a:ext cx="31240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-1080" y="1813320"/>
              <a:ext cx="130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expe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 flipH="1">
              <a:off x="3123720" y="1662120"/>
              <a:ext cx="121932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3778200" y="181332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800600" y="166212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5181480" y="1662120"/>
              <a:ext cx="35053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5103360" y="181332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abl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rrect mo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120" y="2286000"/>
            <a:ext cx="7453800" cy="1295280"/>
            <a:chOff x="852120" y="2286000"/>
            <a:chExt cx="7453800" cy="1295280"/>
          </a:xfrm>
        </p:grpSpPr>
        <p:sp>
          <p:nvSpPr>
            <p:cNvPr id="157" name="AutoShape 13"/>
            <p:cNvSpPr/>
            <p:nvPr/>
          </p:nvSpPr>
          <p:spPr>
            <a:xfrm>
              <a:off x="1676520" y="2286000"/>
              <a:ext cx="3124080" cy="60948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3276720" y="2895480"/>
              <a:ext cx="114768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3827160" y="2985480"/>
              <a:ext cx="126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852120" y="2985480"/>
              <a:ext cx="127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m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 flipH="1">
              <a:off x="1604520" y="28954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4572000" y="2895480"/>
              <a:ext cx="3733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9"/>
          <p:cNvGrpSpPr/>
          <p:nvPr/>
        </p:nvGrpSpPr>
        <p:grpSpPr>
          <a:xfrm>
            <a:off x="456840" y="3505320"/>
            <a:ext cx="8153640" cy="1218960"/>
            <a:chOff x="456840" y="3505320"/>
            <a:chExt cx="8153640" cy="1218960"/>
          </a:xfrm>
        </p:grpSpPr>
        <p:sp>
          <p:nvSpPr>
            <p:cNvPr id="164" name="AutoShape 20"/>
            <p:cNvSpPr/>
            <p:nvPr/>
          </p:nvSpPr>
          <p:spPr>
            <a:xfrm>
              <a:off x="2976480" y="3505320"/>
              <a:ext cx="3124440" cy="60948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Reprä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r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 flipH="1">
              <a:off x="456840" y="4114800"/>
              <a:ext cx="3048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609480" y="411408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nom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 flipH="1">
              <a:off x="3276720" y="411480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3667680" y="417456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f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4724280" y="41148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>
              <a:off x="5181840" y="4188600"/>
              <a:ext cx="129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rtificial ne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019920" y="4114800"/>
              <a:ext cx="2590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8"/>
          <p:cNvGrpSpPr/>
          <p:nvPr/>
        </p:nvGrpSpPr>
        <p:grpSpPr>
          <a:xfrm>
            <a:off x="1676520" y="4724280"/>
            <a:ext cx="5638680" cy="1219320"/>
            <a:chOff x="1676520" y="4724280"/>
            <a:chExt cx="5638680" cy="1219320"/>
          </a:xfrm>
        </p:grpSpPr>
        <p:sp>
          <p:nvSpPr>
            <p:cNvPr id="173" name="AutoShape 29"/>
            <p:cNvSpPr/>
            <p:nvPr/>
          </p:nvSpPr>
          <p:spPr>
            <a:xfrm>
              <a:off x="1676520" y="4724280"/>
              <a:ext cx="3124080" cy="609840"/>
            </a:xfrm>
            <a:prstGeom prst="flowChartAlternateProcess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en Lern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H="1">
              <a:off x="2514600" y="533412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31"/>
            <p:cNvSpPr/>
            <p:nvPr/>
          </p:nvSpPr>
          <p:spPr>
            <a:xfrm>
              <a:off x="2820600" y="5409360"/>
              <a:ext cx="80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rad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sc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>
              <a:off x="35812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>
              <a:off x="4327200" y="54079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gram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4"/>
            <p:cNvSpPr/>
            <p:nvPr/>
          </p:nvSpPr>
          <p:spPr>
            <a:xfrm>
              <a:off x="4648320" y="5334120"/>
              <a:ext cx="2666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167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182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193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09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640" y="80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70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Vorgehen ist sehr allgem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wird unter maschinellem Lernen nur der Teil „Lernalgorithmus“ verstanden, es geht aber um die ganz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wenn alle Teile zusammenpassen ist ein gutes Resultat zu erw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Modell ist modular und Verfahren auf den verschiedenen Ebenen können miteinander kombiniert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 nach zu lösendem Problem, kann es sein, daß es in mehrere Lernprobleme zerlegt werden muß, die durch unterschiedliche Ansätze gelös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19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21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30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37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46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rainingserfa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1197000"/>
            <a:ext cx="79740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tion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ung vo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 aus Datenbanken/-samm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eugung durch da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abe durch Exp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 Vorgabe von auß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wachtes Lernen (jeder Schritt wir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Lehrer bewert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überwachtes Lernen (keine Vorga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forcement Learning (Bewertung über Erfolg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sserfolg einer Serie von Entscheid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gibt es Vorgab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trennte Lern- und Kann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inuierliches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n mit Verg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wird geler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jedem Schritt (Learning by Pat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igen Schritten (Learning by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em kompletten Satz von Eingaben (Learning by Epo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56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67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83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fun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125000"/>
            <a:ext cx="6732720" cy="53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„schwarze Kunst“, welche Kodierung für konkreten Fall am besten geeignet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st wird hier das Problem als Problem der Mustererkennung aufgefasst,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ifikation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rodukt in Ordnung oder ni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atient krank oder gesu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e handgeschriebene Ziffer eine 1,2,3 …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t: Generalisierung (Schätzen von Werten für bestimmte Beobachtungen bei vorgegebenen Mustern. Rekonstruktion einer Fun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vernünftiger Preis für dieses Haus / Au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gesund/krank ist ein Pati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klassischen Statistik sind das Regression, Inter- sowie Extrapolation. Für hochdimensionale Probleme tritt in der Praxis meist Extrapolation a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üte der Zielfunktion ist nicht unabhängig von der Wahl des Lernalgorith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93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95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04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11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20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13716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Lager: symbolisch und 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Regeln, Entscheidungsbäume, logische Formeln, Beispielfä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Erklärungsmöglich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Statistik, Polynome, neuronale Netze, „Genstring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Leistungsfäh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räsentation schränkt Auswahl der Lernalgorithmen stark 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ben der Repräsentation ist auch die Kodierung der Eingangsdaten entsche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Kodierung des Alters von Patienten als Integer, als reelle Werte, als binäre Klassenvariabl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„Alter 0-10“, „Alter 11-30“, „über 30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 Kodierungen können aus einfachen Lernproblemen schwierige mach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330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332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41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48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57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1052640"/>
            <a:ext cx="694836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er Kern des Maschinellen Ler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Verfahren aus verschiedenen Bereichen (Statistik, Logik, Neuro-wissenschaften, Optimierung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ätz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Schließ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-Base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MS-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und evolutionär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-Vektor-Masch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bstorganisierende K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erausforderungen beim Maschinellen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Verfahren eignen sich wann, um Funktionen anzunäh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en beim Design einer Lösu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Beispi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ität de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wird die Lösung des Problems durch Umwelt beeinflus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rausch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ere Datenqu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theoretischen Grenzen der Lernbark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Vorwissen genutz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Anregungen können wir aus der Natur abschau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önnen Systeme selbstständig Repräsentationen fi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Definitionen und Abgrenzung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ntrale Fähigkeit von „intelligenten Systemen“ in Natur und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gerichtete Veränderung von Wissen und/oder Verhaltensweisen durch Erfa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Formen des Lerne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orisches Lernen, Regellernen, Sprachlernen, Lernen mit Lehrern, Lernen in der Entwicklu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kein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s Speichern von Daten (keine Verände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es Programmieren von Lösungen (keine Erfah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von Bei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71600"/>
            <a:ext cx="817884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einer unbekannten Funkti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 Gute Approximation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ordnung: überwachtes Lernen/Mustererk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von Krank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Patientendaten (Geschlecht, Alter, Erkrankung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Krankheit (oder vorgeschlagene Therap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siko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Eigenschaften von Kunden (Demographie, Unfälle, Vorgeschichte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Risikoeinschä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t-of-speech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843280" y="5084640"/>
            <a:ext cx="167616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623960" y="53132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1623960" y="56181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1623960" y="5923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1623960" y="62276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236240" y="54039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1236240" y="57085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1236240" y="601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519440" y="5770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5863320" y="555624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1266480" y="50846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62160" y="1295280"/>
            <a:ext cx="167652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1843200" y="1523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1843200" y="1828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1843200" y="2133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1843200" y="243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45548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55480" y="16146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455480" y="19191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1455480" y="22240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4738680" y="19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6082200" y="176688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838080" y="2819520"/>
          <a:ext cx="7277400" cy="264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27740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 Lern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520" y="5300640"/>
            <a:ext cx="817884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 schreiben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 für die Menge aller Funktionen, die Elemente von A auf Elemente von B abbi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initionsbereich von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ist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, d.h.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Y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503520" y="3059280"/>
          <a:ext cx="5631120" cy="39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3059280"/>
                    <a:ext cx="563112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8000" y="81000"/>
            <a:ext cx="804528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ypothesen-Raum (unbeschränkter Fall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viel mögliche Funk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Hypothesen) gibt 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|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5536 möglich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iver Ansatz: Streiche mit jedem Beispiel alle nicht passen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zu müssen alle möglichen Eingaben betrach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7 Beispielen bleiben noch 2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512 Hypothesen fü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von 655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Vorhersage fü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bekannt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echtes (verallg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inerndes)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her: Look-Up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griffs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: concept) bezeichnet eine Menge von Entitäten mit gemeinsamen Eigenscha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m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sler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concept learning) enthält der Wertebereich der zu lernenden Funktion f nur die Werte 1 (wahr, gehört zum Begriff) und 0 (falsch, gehört nicht zum Begrif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324000" y="4371840"/>
          <a:ext cx="8610480" cy="24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371840"/>
                    <a:ext cx="861048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n eines Begriffs, Beispiel EnjoyS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Ähnlich zur Definition von Datentypen, oft Aufzählungs-Daten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6 Attribu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Rainy, Sunny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Warm, Col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rmal, High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ne, Mild, Stron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Same, Chang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Finde Beschreibung des Begriffss, generalisiere für unbekann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epräsentierung der Hypothe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ele Möglich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chlag: Jede Hypothese ist eine Konjunktion von Attribu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Attribut werden Constraints/Bedingungen ange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e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fische Werte: z.B. Water = 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Wert ist egal : z.B. Water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gar kein Wert erlaubt : z.B. Water = 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-Hypothese fü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Temp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  Wi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Wat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Stro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diese Hypothese konsistent mit den Trainingsbeispie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Hypothesen aus, die konsistent mit den Beispielen s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ist die Menge aller möglichen Hypothesen H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&lt;Ø,Ø,Ø,Ø,Ø&gt; = &lt;?,?,?,?,Ø&gt;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bald ein Ø vorkommt entspricht die Hypothese der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möglichen Hypothesen: (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) +1 = 973 =|H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|H|=973 &lt; |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Lernen des Konzepts </a:t>
            </a:r>
            <a:r>
              <a:rPr b="0" i="1" lang="de-DE" sz="3200" spc="-1" strike="noStrike">
                <a:solidFill>
                  <a:srgbClr val="000000"/>
                </a:solidFill>
                <a:latin typeface="Arial Black"/>
              </a:rPr>
              <a:t>EnjoySpor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99072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ge D von Trainingsbeispielen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jeweils Tage mit den Attributen Sky, AirTemp, Humidity, Wind, Water, Forecast beschreiben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 = {{Rainy, Sunny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Warm, Cold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rmal, High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ne, Mild, Strong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Same, Change}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, ob ein Tag mit solchen Attributen zu dem Zielkonzept gehöre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gative Beispie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r Zielfunktio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 ode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so das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für alle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ls Konjunktion von Attributen (z.B. &lt;?, Cold, High, ?, ?, ?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njoySport: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lch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nennt m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Trainingsmeng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annah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fehlen keine 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Rauschen in den Daten (widersprüchliche D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e Hypothese, die konsistent mit D ist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näh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rundidee des induktiven Lerne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 vs.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: aus gegebenen Fakten neue Fakten ableiten (Bewe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, Folgerung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Allgemeinen zum Speziell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on: aus gegebenen Fakten neue Fakten mutmaßen (Hypo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Fliegt(Amsel), Fliegt(Storch), Folgerung: Fliegt(Vog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Speziellen zum Allgemein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e des induktiven Lerne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 eine Funktion aus Beispi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Hypothese, die für eine hinreichend große Beispielmenge die Zielfunktion gut annähert, wird die Funktion auch gut für unbekannte Beispiele annäh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zunächst: Wie kann ein Lernverfahren konkret ausse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254160" y="1066680"/>
            <a:ext cx="3276360" cy="3810240"/>
            <a:chOff x="254160" y="1066680"/>
            <a:chExt cx="3276360" cy="3810240"/>
          </a:xfrm>
        </p:grpSpPr>
        <p:sp>
          <p:nvSpPr>
            <p:cNvPr id="412" name="Rectangle 3"/>
            <p:cNvSpPr/>
            <p:nvPr/>
          </p:nvSpPr>
          <p:spPr>
            <a:xfrm>
              <a:off x="1169640" y="1066680"/>
              <a:ext cx="145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stanzen </a:t>
              </a:r>
              <a:r>
                <a:rPr b="1" i="1" lang="de-DE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4"/>
            <p:cNvSpPr/>
            <p:nvPr/>
          </p:nvSpPr>
          <p:spPr>
            <a:xfrm>
              <a:off x="314964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5"/>
            <p:cNvSpPr/>
            <p:nvPr/>
          </p:nvSpPr>
          <p:spPr>
            <a:xfrm>
              <a:off x="1854360" y="1828800"/>
              <a:ext cx="152280" cy="152280"/>
            </a:xfrm>
            <a:prstGeom prst="ellipse">
              <a:avLst/>
            </a:prstGeom>
            <a:solidFill>
              <a:srgbClr val="f35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6"/>
            <p:cNvSpPr/>
            <p:nvPr/>
          </p:nvSpPr>
          <p:spPr>
            <a:xfrm>
              <a:off x="558720" y="182880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558720" y="2971800"/>
              <a:ext cx="152640" cy="152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558720" y="42670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9"/>
            <p:cNvSpPr/>
            <p:nvPr/>
          </p:nvSpPr>
          <p:spPr>
            <a:xfrm>
              <a:off x="1397160" y="2590920"/>
              <a:ext cx="152280" cy="152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0"/>
            <p:cNvSpPr/>
            <p:nvPr/>
          </p:nvSpPr>
          <p:spPr>
            <a:xfrm>
              <a:off x="1320840" y="3886200"/>
              <a:ext cx="152280" cy="15228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1"/>
            <p:cNvSpPr/>
            <p:nvPr/>
          </p:nvSpPr>
          <p:spPr>
            <a:xfrm>
              <a:off x="1701720" y="3124080"/>
              <a:ext cx="15264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2463840" y="31240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2158920" y="3581280"/>
              <a:ext cx="152640" cy="1526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2768760" y="3581280"/>
              <a:ext cx="152280" cy="1526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2158920" y="4267080"/>
              <a:ext cx="152640" cy="15264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2541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7"/>
          <p:cNvGrpSpPr/>
          <p:nvPr/>
        </p:nvGrpSpPr>
        <p:grpSpPr>
          <a:xfrm>
            <a:off x="4140360" y="1052640"/>
            <a:ext cx="3276360" cy="3824280"/>
            <a:chOff x="4140360" y="1052640"/>
            <a:chExt cx="3276360" cy="3824280"/>
          </a:xfrm>
        </p:grpSpPr>
        <p:sp>
          <p:nvSpPr>
            <p:cNvPr id="427" name="Rectangle 18"/>
            <p:cNvSpPr/>
            <p:nvPr/>
          </p:nvSpPr>
          <p:spPr>
            <a:xfrm>
              <a:off x="4942080" y="1052640"/>
              <a:ext cx="17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ypothes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41403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20"/>
            <p:cNvSpPr/>
            <p:nvPr/>
          </p:nvSpPr>
          <p:spPr>
            <a:xfrm>
              <a:off x="4902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21"/>
            <p:cNvSpPr/>
            <p:nvPr/>
          </p:nvSpPr>
          <p:spPr>
            <a:xfrm>
              <a:off x="6045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22"/>
            <p:cNvSpPr/>
            <p:nvPr/>
          </p:nvSpPr>
          <p:spPr>
            <a:xfrm>
              <a:off x="711216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23"/>
            <p:cNvSpPr/>
            <p:nvPr/>
          </p:nvSpPr>
          <p:spPr>
            <a:xfrm>
              <a:off x="5435640" y="2362320"/>
              <a:ext cx="15228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24"/>
            <p:cNvSpPr/>
            <p:nvPr/>
          </p:nvSpPr>
          <p:spPr>
            <a:xfrm>
              <a:off x="6502320" y="236232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25"/>
            <p:cNvSpPr/>
            <p:nvPr/>
          </p:nvSpPr>
          <p:spPr>
            <a:xfrm>
              <a:off x="4902120" y="29718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969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7112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4216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5359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30"/>
            <p:cNvSpPr/>
            <p:nvPr/>
          </p:nvSpPr>
          <p:spPr>
            <a:xfrm>
              <a:off x="6502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31"/>
            <p:cNvSpPr/>
            <p:nvPr/>
          </p:nvSpPr>
          <p:spPr>
            <a:xfrm>
              <a:off x="4826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>
              <a:off x="5969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33"/>
            <p:cNvSpPr/>
            <p:nvPr/>
          </p:nvSpPr>
          <p:spPr>
            <a:xfrm>
              <a:off x="7112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34"/>
          <p:cNvGrpSpPr/>
          <p:nvPr/>
        </p:nvGrpSpPr>
        <p:grpSpPr>
          <a:xfrm>
            <a:off x="4292640" y="1447920"/>
            <a:ext cx="4633920" cy="3430440"/>
            <a:chOff x="4292640" y="1447920"/>
            <a:chExt cx="4633920" cy="3430440"/>
          </a:xfrm>
        </p:grpSpPr>
        <p:sp>
          <p:nvSpPr>
            <p:cNvPr id="444" name="Rectangle 35"/>
            <p:cNvSpPr/>
            <p:nvPr/>
          </p:nvSpPr>
          <p:spPr>
            <a:xfrm>
              <a:off x="7615080" y="152388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pezifis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36"/>
            <p:cNvSpPr/>
            <p:nvPr/>
          </p:nvSpPr>
          <p:spPr>
            <a:xfrm>
              <a:off x="7710480" y="4510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37"/>
            <p:cNvGrpSpPr/>
            <p:nvPr/>
          </p:nvGrpSpPr>
          <p:grpSpPr>
            <a:xfrm>
              <a:off x="4292640" y="1828800"/>
              <a:ext cx="2895120" cy="2514240"/>
              <a:chOff x="4292640" y="1828800"/>
              <a:chExt cx="2895120" cy="2514240"/>
            </a:xfrm>
          </p:grpSpPr>
          <p:sp>
            <p:nvSpPr>
              <p:cNvPr id="447" name="Line 38"/>
              <p:cNvSpPr/>
              <p:nvPr/>
            </p:nvSpPr>
            <p:spPr>
              <a:xfrm flipH="1" flipV="1">
                <a:off x="5587920" y="2438280"/>
                <a:ext cx="4572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39"/>
              <p:cNvGrpSpPr/>
              <p:nvPr/>
            </p:nvGrpSpPr>
            <p:grpSpPr>
              <a:xfrm>
                <a:off x="4292640" y="1828800"/>
                <a:ext cx="2895120" cy="2514240"/>
                <a:chOff x="4292640" y="1828800"/>
                <a:chExt cx="2895120" cy="2514240"/>
              </a:xfrm>
            </p:grpSpPr>
            <p:sp>
              <p:nvSpPr>
                <p:cNvPr id="449" name="Line 40"/>
                <p:cNvSpPr/>
                <p:nvPr/>
              </p:nvSpPr>
              <p:spPr>
                <a:xfrm flipH="1" flipV="1">
                  <a:off x="5054760" y="182880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41"/>
                <p:cNvSpPr/>
                <p:nvPr/>
              </p:nvSpPr>
              <p:spPr>
                <a:xfrm flipV="1">
                  <a:off x="5511960" y="182880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42"/>
                <p:cNvSpPr/>
                <p:nvPr/>
              </p:nvSpPr>
              <p:spPr>
                <a:xfrm flipH="1" flipV="1">
                  <a:off x="6197760" y="1828800"/>
                  <a:ext cx="38088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43"/>
                <p:cNvSpPr/>
                <p:nvPr/>
              </p:nvSpPr>
              <p:spPr>
                <a:xfrm flipV="1">
                  <a:off x="6578640" y="1828800"/>
                  <a:ext cx="53352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44"/>
                <p:cNvSpPr/>
                <p:nvPr/>
              </p:nvSpPr>
              <p:spPr>
                <a:xfrm flipV="1">
                  <a:off x="497844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45"/>
                <p:cNvSpPr/>
                <p:nvPr/>
              </p:nvSpPr>
              <p:spPr>
                <a:xfrm flipV="1">
                  <a:off x="604512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46"/>
                <p:cNvSpPr/>
                <p:nvPr/>
              </p:nvSpPr>
              <p:spPr>
                <a:xfrm flipH="1" flipV="1">
                  <a:off x="6654600" y="243828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47"/>
                <p:cNvSpPr/>
                <p:nvPr/>
              </p:nvSpPr>
              <p:spPr>
                <a:xfrm flipV="1">
                  <a:off x="4292640" y="3047760"/>
                  <a:ext cx="60948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48"/>
                <p:cNvSpPr/>
                <p:nvPr/>
              </p:nvSpPr>
              <p:spPr>
                <a:xfrm flipH="1" flipV="1">
                  <a:off x="6121440" y="30477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49"/>
                <p:cNvSpPr/>
                <p:nvPr/>
              </p:nvSpPr>
              <p:spPr>
                <a:xfrm flipV="1">
                  <a:off x="6578640" y="3047760"/>
                  <a:ext cx="53352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50"/>
                <p:cNvSpPr/>
                <p:nvPr/>
              </p:nvSpPr>
              <p:spPr>
                <a:xfrm flipH="1" flipV="1">
                  <a:off x="4368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51"/>
                <p:cNvSpPr/>
                <p:nvPr/>
              </p:nvSpPr>
              <p:spPr>
                <a:xfrm flipV="1">
                  <a:off x="6045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52"/>
                <p:cNvSpPr/>
                <p:nvPr/>
              </p:nvSpPr>
              <p:spPr>
                <a:xfrm flipH="1" flipV="1">
                  <a:off x="6654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53"/>
                <p:cNvSpPr/>
                <p:nvPr/>
              </p:nvSpPr>
              <p:spPr>
                <a:xfrm flipV="1">
                  <a:off x="4902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54"/>
                <p:cNvSpPr/>
                <p:nvPr/>
              </p:nvSpPr>
              <p:spPr>
                <a:xfrm flipH="1" flipV="1">
                  <a:off x="5511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4" name="Line 55"/>
            <p:cNvSpPr/>
            <p:nvPr/>
          </p:nvSpPr>
          <p:spPr>
            <a:xfrm>
              <a:off x="7645320" y="14479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56"/>
          <p:cNvGrpSpPr/>
          <p:nvPr/>
        </p:nvGrpSpPr>
        <p:grpSpPr>
          <a:xfrm>
            <a:off x="0" y="4875120"/>
            <a:ext cx="7620120" cy="820800"/>
            <a:chOff x="0" y="4875120"/>
            <a:chExt cx="7620120" cy="820800"/>
          </a:xfrm>
        </p:grpSpPr>
        <p:sp>
          <p:nvSpPr>
            <p:cNvPr id="466" name="Rectangle 57"/>
            <p:cNvSpPr/>
            <p:nvPr/>
          </p:nvSpPr>
          <p:spPr>
            <a:xfrm>
              <a:off x="0" y="4903920"/>
              <a:ext cx="4114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Strong, Cool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Light, Warm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8"/>
            <p:cNvSpPr/>
            <p:nvPr/>
          </p:nvSpPr>
          <p:spPr>
            <a:xfrm>
              <a:off x="4343400" y="4875120"/>
              <a:ext cx="3276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Strong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Cool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59"/>
          <p:cNvGrpSpPr/>
          <p:nvPr/>
        </p:nvGrpSpPr>
        <p:grpSpPr>
          <a:xfrm>
            <a:off x="1244520" y="2740680"/>
            <a:ext cx="4311000" cy="764640"/>
            <a:chOff x="1244520" y="2740680"/>
            <a:chExt cx="4311000" cy="764640"/>
          </a:xfrm>
        </p:grpSpPr>
        <p:sp>
          <p:nvSpPr>
            <p:cNvPr id="469" name="Oval 60"/>
            <p:cNvSpPr/>
            <p:nvPr/>
          </p:nvSpPr>
          <p:spPr>
            <a:xfrm>
              <a:off x="1244520" y="29718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0" name="AutoShape 61"/>
            <p:cNvCxnSpPr>
              <a:stCxn id="469" idx="7"/>
              <a:endCxn id="434" idx="1"/>
            </p:cNvCxnSpPr>
            <p:nvPr/>
          </p:nvCxnSpPr>
          <p:spPr>
            <a:xfrm flipH="1" flipV="1" rot="5400000">
              <a:off x="3843000" y="1955160"/>
              <a:ext cx="43560" cy="2120040"/>
            </a:xfrm>
            <a:prstGeom prst="curvedConnector5">
              <a:avLst>
                <a:gd name="adj1" fmla="val 685000"/>
                <a:gd name="adj2" fmla="val 50000"/>
                <a:gd name="adj3" fmla="val 685000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1" name="Rectangle 62"/>
            <p:cNvSpPr/>
            <p:nvPr/>
          </p:nvSpPr>
          <p:spPr>
            <a:xfrm>
              <a:off x="1531440" y="304632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3"/>
            <p:cNvSpPr/>
            <p:nvPr/>
          </p:nvSpPr>
          <p:spPr>
            <a:xfrm>
              <a:off x="516168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64"/>
          <p:cNvGrpSpPr/>
          <p:nvPr/>
        </p:nvGrpSpPr>
        <p:grpSpPr>
          <a:xfrm>
            <a:off x="1092240" y="2131920"/>
            <a:ext cx="5529960" cy="1602000"/>
            <a:chOff x="1092240" y="2131920"/>
            <a:chExt cx="5529960" cy="1602000"/>
          </a:xfrm>
        </p:grpSpPr>
        <p:sp>
          <p:nvSpPr>
            <p:cNvPr id="474" name="Oval 65"/>
            <p:cNvSpPr/>
            <p:nvPr/>
          </p:nvSpPr>
          <p:spPr>
            <a:xfrm>
              <a:off x="1092240" y="2362320"/>
              <a:ext cx="914400" cy="13716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AutoShape 66"/>
            <p:cNvCxnSpPr>
              <a:stCxn id="474" idx="7"/>
              <a:endCxn id="435" idx="1"/>
            </p:cNvCxnSpPr>
            <p:nvPr/>
          </p:nvCxnSpPr>
          <p:spPr>
            <a:xfrm flipH="1" rot="16200000">
              <a:off x="3710160" y="712440"/>
              <a:ext cx="443880" cy="4118760"/>
            </a:xfrm>
            <a:prstGeom prst="curvedConnector5">
              <a:avLst>
                <a:gd name="adj1" fmla="val -94237"/>
                <a:gd name="adj2" fmla="val 50000"/>
                <a:gd name="adj3" fmla="val -94237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6" name="Rectangle 67"/>
            <p:cNvSpPr/>
            <p:nvPr/>
          </p:nvSpPr>
          <p:spPr>
            <a:xfrm>
              <a:off x="622836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68"/>
          <p:cNvGrpSpPr/>
          <p:nvPr/>
        </p:nvGrpSpPr>
        <p:grpSpPr>
          <a:xfrm>
            <a:off x="939960" y="1600200"/>
            <a:ext cx="5072760" cy="3277080"/>
            <a:chOff x="939960" y="1600200"/>
            <a:chExt cx="5072760" cy="3277080"/>
          </a:xfrm>
        </p:grpSpPr>
        <p:sp>
          <p:nvSpPr>
            <p:cNvPr id="478" name="Rectangle 69"/>
            <p:cNvSpPr/>
            <p:nvPr/>
          </p:nvSpPr>
          <p:spPr>
            <a:xfrm>
              <a:off x="2674440" y="357984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939960" y="1600200"/>
              <a:ext cx="2286000" cy="304812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71"/>
            <p:cNvCxnSpPr>
              <a:stCxn id="479" idx="5"/>
              <a:endCxn id="438" idx="4"/>
            </p:cNvCxnSpPr>
            <p:nvPr/>
          </p:nvCxnSpPr>
          <p:spPr>
            <a:xfrm flipH="1" flipV="1" rot="5400000">
              <a:off x="3959640" y="2739240"/>
              <a:ext cx="405720" cy="2545560"/>
            </a:xfrm>
            <a:prstGeom prst="curvedConnector5">
              <a:avLst>
                <a:gd name="adj1" fmla="val -163499"/>
                <a:gd name="adj2" fmla="val 50000"/>
                <a:gd name="adj3" fmla="val -163499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81" name="Rectangle 72"/>
            <p:cNvSpPr/>
            <p:nvPr/>
          </p:nvSpPr>
          <p:spPr>
            <a:xfrm>
              <a:off x="5618880" y="34416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stanzen- und Hypothesenra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3" name="Group 74"/>
          <p:cNvGrpSpPr/>
          <p:nvPr/>
        </p:nvGrpSpPr>
        <p:grpSpPr>
          <a:xfrm>
            <a:off x="890280" y="1052640"/>
            <a:ext cx="7735680" cy="5662440"/>
            <a:chOff x="890280" y="1052640"/>
            <a:chExt cx="7735680" cy="5662440"/>
          </a:xfrm>
        </p:grpSpPr>
        <p:grpSp>
          <p:nvGrpSpPr>
            <p:cNvPr id="484" name="Group 75"/>
            <p:cNvGrpSpPr/>
            <p:nvPr/>
          </p:nvGrpSpPr>
          <p:grpSpPr>
            <a:xfrm>
              <a:off x="4343400" y="1052640"/>
              <a:ext cx="4282560" cy="5376600"/>
              <a:chOff x="4343400" y="1052640"/>
              <a:chExt cx="4282560" cy="5376600"/>
            </a:xfrm>
          </p:grpSpPr>
          <p:sp>
            <p:nvSpPr>
              <p:cNvPr id="485" name="Rectangle 76"/>
              <p:cNvSpPr/>
              <p:nvPr/>
            </p:nvSpPr>
            <p:spPr>
              <a:xfrm>
                <a:off x="4343400" y="5805360"/>
                <a:ext cx="3828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 ,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77"/>
              <p:cNvSpPr/>
              <p:nvPr/>
            </p:nvSpPr>
            <p:spPr>
              <a:xfrm flipV="1">
                <a:off x="5435640" y="3047760"/>
                <a:ext cx="53352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6525000" y="1052640"/>
                <a:ext cx="21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, partiell geord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4356000" y="6093000"/>
                <a:ext cx="3829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Aber weder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 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noch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Rectangle 80"/>
            <p:cNvSpPr/>
            <p:nvPr/>
          </p:nvSpPr>
          <p:spPr>
            <a:xfrm>
              <a:off x="890280" y="6165720"/>
              <a:ext cx="31204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de-DE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st partielle Ordnun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nsitiv, reflexiv, antisymmetr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81"/>
          <p:cNvGrpSpPr/>
          <p:nvPr/>
        </p:nvGrpSpPr>
        <p:grpSpPr>
          <a:xfrm>
            <a:off x="498600" y="3068280"/>
            <a:ext cx="4885920" cy="3073320"/>
            <a:chOff x="498600" y="3068280"/>
            <a:chExt cx="4885920" cy="3073320"/>
          </a:xfrm>
        </p:grpSpPr>
        <p:sp>
          <p:nvSpPr>
            <p:cNvPr id="491" name="Line 82"/>
            <p:cNvSpPr/>
            <p:nvPr/>
          </p:nvSpPr>
          <p:spPr>
            <a:xfrm flipH="1" flipV="1">
              <a:off x="5003280" y="3068280"/>
              <a:ext cx="3812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83"/>
            <p:cNvSpPr/>
            <p:nvPr/>
          </p:nvSpPr>
          <p:spPr>
            <a:xfrm>
              <a:off x="498600" y="5589720"/>
              <a:ext cx="307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-Or-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84"/>
            <p:cNvSpPr/>
            <p:nvPr/>
          </p:nvSpPr>
          <p:spPr>
            <a:xfrm>
              <a:off x="923400" y="5805360"/>
              <a:ext cx="2223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Find-S 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Initialisiere h als spezifischste mögliche Hypothese aus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 unserem Fall ist das die Hypothese &lt;Ø,Ø,Ø,Ø,Ø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positive Instanzen x aus D, d.h.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ttribut mit Wert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durch x erfü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DA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keine Ä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ON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ersetze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urch den nä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ren Wert, der durch x erfül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Ausgabe von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gative Beispiele werden nicht betrach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ahren sucht “minimale” bzw. spezifischste Hypothese aus H, die alle positiven Beispiele umfaß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es eine Lösung gibt, dann wird sie auch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, wenn es keine Lösung gib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Gesichtserkenn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kennung anhand von Gesicht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l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alysed Face (22kB)"/>
          <p:cNvPicPr/>
          <p:nvPr/>
        </p:nvPicPr>
        <p:blipFill>
          <a:blip r:embed="rId1"/>
          <a:stretch/>
        </p:blipFill>
        <p:spPr>
          <a:xfrm>
            <a:off x="3132000" y="1916280"/>
            <a:ext cx="5648400" cy="2496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32720" y="1844640"/>
            <a:ext cx="20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Wiskott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Wahlster_aergerlich1"/>
          <p:cNvPicPr/>
          <p:nvPr/>
        </p:nvPicPr>
        <p:blipFill>
          <a:blip r:embed="rId2"/>
          <a:stretch/>
        </p:blipFill>
        <p:spPr>
          <a:xfrm>
            <a:off x="468360" y="4724280"/>
            <a:ext cx="2590920" cy="20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Wahlster_neutral1"/>
          <p:cNvPicPr/>
          <p:nvPr/>
        </p:nvPicPr>
        <p:blipFill>
          <a:blip r:embed="rId3"/>
          <a:stretch/>
        </p:blipFill>
        <p:spPr>
          <a:xfrm>
            <a:off x="3132000" y="4724280"/>
            <a:ext cx="2592360" cy="2040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940360" y="6381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SmartKom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59280" y="1501920"/>
            <a:ext cx="4038480" cy="2444400"/>
            <a:chOff x="4859280" y="1501920"/>
            <a:chExt cx="4038480" cy="2444400"/>
          </a:xfrm>
        </p:grpSpPr>
        <p:sp>
          <p:nvSpPr>
            <p:cNvPr id="497" name="Rectangle 3"/>
            <p:cNvSpPr/>
            <p:nvPr/>
          </p:nvSpPr>
          <p:spPr>
            <a:xfrm>
              <a:off x="4859280" y="364500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Ø, Ø, Ø, Ø, Ø, Ø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4"/>
            <p:cNvSpPr/>
            <p:nvPr/>
          </p:nvSpPr>
          <p:spPr>
            <a:xfrm>
              <a:off x="6136920" y="150192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5198760" y="1639440"/>
            <a:ext cx="1597320" cy="1843560"/>
            <a:chOff x="5198760" y="1639440"/>
            <a:chExt cx="1597320" cy="1843560"/>
          </a:xfrm>
        </p:grpSpPr>
        <p:sp>
          <p:nvSpPr>
            <p:cNvPr id="500" name="Line 6"/>
            <p:cNvSpPr/>
            <p:nvPr/>
          </p:nvSpPr>
          <p:spPr>
            <a:xfrm flipV="1">
              <a:off x="5878440" y="1639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 flipH="1" flipV="1">
              <a:off x="6113160" y="1643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V="1">
              <a:off x="5573880" y="202104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 flipH="1" flipV="1">
              <a:off x="5808600" y="202392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 flipV="1">
              <a:off x="6107040" y="2021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 flipV="1">
              <a:off x="6341760" y="2023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 flipV="1">
              <a:off x="526896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 flipH="1" flipV="1">
              <a:off x="550368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 flipV="1">
              <a:off x="5802480" y="240192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 flipH="1" flipV="1">
              <a:off x="6037200" y="2404800"/>
              <a:ext cx="22248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 flipV="1">
              <a:off x="633564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 flipH="1" flipV="1">
              <a:off x="657036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 flipH="1" flipV="1">
              <a:off x="519876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 flipV="1">
              <a:off x="5497560" y="2782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 flipH="1" flipV="1">
              <a:off x="573228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 flipV="1">
              <a:off x="6031080" y="2782440"/>
              <a:ext cx="23148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 flipH="1" flipV="1">
              <a:off x="6265800" y="278604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 flipV="1">
              <a:off x="6564240" y="279720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 flipH="1" flipV="1">
              <a:off x="542736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 flipV="1">
              <a:off x="5726160" y="3164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 flipH="1" flipV="1">
              <a:off x="596088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 flipV="1">
              <a:off x="6259680" y="317772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28"/>
          <p:cNvGrpSpPr/>
          <p:nvPr/>
        </p:nvGrpSpPr>
        <p:grpSpPr>
          <a:xfrm>
            <a:off x="4964040" y="1197000"/>
            <a:ext cx="2057400" cy="2438280"/>
            <a:chOff x="4964040" y="1197000"/>
            <a:chExt cx="2057400" cy="2438280"/>
          </a:xfrm>
        </p:grpSpPr>
        <p:sp>
          <p:nvSpPr>
            <p:cNvPr id="523" name="Oval 29"/>
            <p:cNvSpPr/>
            <p:nvPr/>
          </p:nvSpPr>
          <p:spPr>
            <a:xfrm>
              <a:off x="6335640" y="1959120"/>
              <a:ext cx="76320" cy="759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30"/>
            <p:cNvGrpSpPr/>
            <p:nvPr/>
          </p:nvGrpSpPr>
          <p:grpSpPr>
            <a:xfrm>
              <a:off x="4964040" y="1197000"/>
              <a:ext cx="2057400" cy="2438280"/>
              <a:chOff x="4964040" y="1197000"/>
              <a:chExt cx="2057400" cy="2438280"/>
            </a:xfrm>
          </p:grpSpPr>
          <p:sp>
            <p:nvSpPr>
              <p:cNvPr id="525" name="Oval 31"/>
              <p:cNvSpPr/>
              <p:nvPr/>
            </p:nvSpPr>
            <p:spPr>
              <a:xfrm>
                <a:off x="6075360" y="1577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32"/>
              <p:cNvSpPr/>
              <p:nvPr/>
            </p:nvSpPr>
            <p:spPr>
              <a:xfrm>
                <a:off x="4964040" y="1512720"/>
                <a:ext cx="2057400" cy="2122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33"/>
              <p:cNvSpPr/>
              <p:nvPr/>
            </p:nvSpPr>
            <p:spPr>
              <a:xfrm>
                <a:off x="5802480" y="1959120"/>
                <a:ext cx="75960" cy="759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34"/>
              <p:cNvSpPr/>
              <p:nvPr/>
            </p:nvSpPr>
            <p:spPr>
              <a:xfrm>
                <a:off x="549756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35"/>
              <p:cNvSpPr/>
              <p:nvPr/>
            </p:nvSpPr>
            <p:spPr>
              <a:xfrm>
                <a:off x="6031080" y="234000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36"/>
              <p:cNvSpPr/>
              <p:nvPr/>
            </p:nvSpPr>
            <p:spPr>
              <a:xfrm>
                <a:off x="656424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37"/>
              <p:cNvSpPr/>
              <p:nvPr/>
            </p:nvSpPr>
            <p:spPr>
              <a:xfrm>
                <a:off x="51926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38"/>
              <p:cNvSpPr/>
              <p:nvPr/>
            </p:nvSpPr>
            <p:spPr>
              <a:xfrm>
                <a:off x="572616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39"/>
              <p:cNvSpPr/>
              <p:nvPr/>
            </p:nvSpPr>
            <p:spPr>
              <a:xfrm>
                <a:off x="6259680" y="2720880"/>
                <a:ext cx="7596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0"/>
              <p:cNvSpPr/>
              <p:nvPr/>
            </p:nvSpPr>
            <p:spPr>
              <a:xfrm>
                <a:off x="67928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1"/>
              <p:cNvSpPr/>
              <p:nvPr/>
            </p:nvSpPr>
            <p:spPr>
              <a:xfrm>
                <a:off x="542124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2"/>
              <p:cNvSpPr/>
              <p:nvPr/>
            </p:nvSpPr>
            <p:spPr>
              <a:xfrm>
                <a:off x="595476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3"/>
              <p:cNvSpPr/>
              <p:nvPr/>
            </p:nvSpPr>
            <p:spPr>
              <a:xfrm>
                <a:off x="6488280" y="3102120"/>
                <a:ext cx="7596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4"/>
              <p:cNvSpPr/>
              <p:nvPr/>
            </p:nvSpPr>
            <p:spPr>
              <a:xfrm>
                <a:off x="564984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Oval 45"/>
              <p:cNvSpPr/>
              <p:nvPr/>
            </p:nvSpPr>
            <p:spPr>
              <a:xfrm>
                <a:off x="618336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46"/>
              <p:cNvSpPr/>
              <p:nvPr/>
            </p:nvSpPr>
            <p:spPr>
              <a:xfrm>
                <a:off x="5339880" y="1197000"/>
                <a:ext cx="137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Hypothese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Group 47"/>
          <p:cNvGrpSpPr/>
          <p:nvPr/>
        </p:nvGrpSpPr>
        <p:grpSpPr>
          <a:xfrm>
            <a:off x="1306440" y="1197000"/>
            <a:ext cx="2057400" cy="2438280"/>
            <a:chOff x="1306440" y="1197000"/>
            <a:chExt cx="2057400" cy="2438280"/>
          </a:xfrm>
        </p:grpSpPr>
        <p:sp>
          <p:nvSpPr>
            <p:cNvPr id="542" name="Rectangle 48"/>
            <p:cNvSpPr/>
            <p:nvPr/>
          </p:nvSpPr>
          <p:spPr>
            <a:xfrm>
              <a:off x="1763640" y="1197000"/>
              <a:ext cx="116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ze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49"/>
            <p:cNvSpPr/>
            <p:nvPr/>
          </p:nvSpPr>
          <p:spPr>
            <a:xfrm>
              <a:off x="1306440" y="1512720"/>
              <a:ext cx="2057400" cy="212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3135240" y="1577880"/>
              <a:ext cx="76320" cy="763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754360" y="1806480"/>
              <a:ext cx="76320" cy="763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1535040" y="165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1916280" y="1577880"/>
              <a:ext cx="75960" cy="763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1459080" y="2340000"/>
              <a:ext cx="75960" cy="763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55"/>
            <p:cNvSpPr/>
            <p:nvPr/>
          </p:nvSpPr>
          <p:spPr>
            <a:xfrm>
              <a:off x="1535040" y="3254400"/>
              <a:ext cx="76320" cy="763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56"/>
            <p:cNvSpPr/>
            <p:nvPr/>
          </p:nvSpPr>
          <p:spPr>
            <a:xfrm>
              <a:off x="1687680" y="2797200"/>
              <a:ext cx="75960" cy="76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57"/>
            <p:cNvSpPr/>
            <p:nvPr/>
          </p:nvSpPr>
          <p:spPr>
            <a:xfrm>
              <a:off x="1839960" y="2111400"/>
              <a:ext cx="76320" cy="763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58"/>
            <p:cNvSpPr/>
            <p:nvPr/>
          </p:nvSpPr>
          <p:spPr>
            <a:xfrm>
              <a:off x="2144880" y="3025800"/>
              <a:ext cx="75960" cy="763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59"/>
            <p:cNvSpPr/>
            <p:nvPr/>
          </p:nvSpPr>
          <p:spPr>
            <a:xfrm>
              <a:off x="2830680" y="3102120"/>
              <a:ext cx="75960" cy="759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60"/>
            <p:cNvSpPr/>
            <p:nvPr/>
          </p:nvSpPr>
          <p:spPr>
            <a:xfrm>
              <a:off x="2449440" y="3178080"/>
              <a:ext cx="76320" cy="763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61"/>
            <p:cNvSpPr/>
            <p:nvPr/>
          </p:nvSpPr>
          <p:spPr>
            <a:xfrm>
              <a:off x="2678040" y="2568600"/>
              <a:ext cx="76320" cy="76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62"/>
            <p:cNvSpPr/>
            <p:nvPr/>
          </p:nvSpPr>
          <p:spPr>
            <a:xfrm>
              <a:off x="2220840" y="25686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63"/>
            <p:cNvSpPr/>
            <p:nvPr/>
          </p:nvSpPr>
          <p:spPr>
            <a:xfrm>
              <a:off x="2373480" y="1654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Group 64"/>
          <p:cNvGrpSpPr/>
          <p:nvPr/>
        </p:nvGrpSpPr>
        <p:grpSpPr>
          <a:xfrm>
            <a:off x="179280" y="1484280"/>
            <a:ext cx="4114800" cy="3315600"/>
            <a:chOff x="179280" y="1484280"/>
            <a:chExt cx="4114800" cy="3315600"/>
          </a:xfrm>
        </p:grpSpPr>
        <p:sp>
          <p:nvSpPr>
            <p:cNvPr id="559" name="Rectangle 65"/>
            <p:cNvSpPr/>
            <p:nvPr/>
          </p:nvSpPr>
          <p:spPr>
            <a:xfrm>
              <a:off x="179280" y="3693960"/>
              <a:ext cx="4114800" cy="11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Rainy, Cold, High, Strong, Warm, Change&gt;,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Cool, Chang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66"/>
            <p:cNvSpPr/>
            <p:nvPr/>
          </p:nvSpPr>
          <p:spPr>
            <a:xfrm>
              <a:off x="1631160" y="14842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67"/>
            <p:cNvSpPr/>
            <p:nvPr/>
          </p:nvSpPr>
          <p:spPr>
            <a:xfrm>
              <a:off x="19360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68"/>
            <p:cNvSpPr/>
            <p:nvPr/>
          </p:nvSpPr>
          <p:spPr>
            <a:xfrm>
              <a:off x="23932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69"/>
            <p:cNvSpPr/>
            <p:nvPr/>
          </p:nvSpPr>
          <p:spPr>
            <a:xfrm>
              <a:off x="2164680" y="30844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Find-S: Suche im Hypothesenrau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8000" y="4797360"/>
            <a:ext cx="81788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e von Find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gt nicht, ob der Begriff tatsächlich gelernt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ussage, ob Daten inkonsistent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einzig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best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2"/>
          <p:cNvGrpSpPr/>
          <p:nvPr/>
        </p:nvGrpSpPr>
        <p:grpSpPr>
          <a:xfrm>
            <a:off x="1992240" y="1791720"/>
            <a:ext cx="6905520" cy="2370240"/>
            <a:chOff x="1992240" y="1791720"/>
            <a:chExt cx="6905520" cy="2370240"/>
          </a:xfrm>
        </p:grpSpPr>
        <p:sp>
          <p:nvSpPr>
            <p:cNvPr id="567" name="Rectangle 73"/>
            <p:cNvSpPr/>
            <p:nvPr/>
          </p:nvSpPr>
          <p:spPr>
            <a:xfrm>
              <a:off x="6339960" y="180648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AutoShape 74"/>
            <p:cNvCxnSpPr>
              <a:stCxn id="569" idx="7"/>
              <a:endCxn id="504" idx="0"/>
            </p:cNvCxnSpPr>
            <p:nvPr/>
          </p:nvCxnSpPr>
          <p:spPr>
            <a:xfrm flipH="1" flipV="1" rot="5400000">
              <a:off x="4109760" y="294480"/>
              <a:ext cx="501840" cy="3956760"/>
            </a:xfrm>
            <a:prstGeom prst="curvedConnector5">
              <a:avLst>
                <a:gd name="adj1" fmla="val 145944"/>
                <a:gd name="adj2" fmla="val 50000"/>
                <a:gd name="adj3" fmla="val 145944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69" name="Oval 75"/>
            <p:cNvSpPr/>
            <p:nvPr/>
          </p:nvSpPr>
          <p:spPr>
            <a:xfrm>
              <a:off x="1992240" y="2492280"/>
              <a:ext cx="457200" cy="30492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76"/>
            <p:cNvSpPr/>
            <p:nvPr/>
          </p:nvSpPr>
          <p:spPr>
            <a:xfrm>
              <a:off x="4859280" y="3860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77"/>
          <p:cNvGrpSpPr/>
          <p:nvPr/>
        </p:nvGrpSpPr>
        <p:grpSpPr>
          <a:xfrm>
            <a:off x="1916280" y="2096640"/>
            <a:ext cx="6981480" cy="2281320"/>
            <a:chOff x="1916280" y="2096640"/>
            <a:chExt cx="6981480" cy="2281320"/>
          </a:xfrm>
        </p:grpSpPr>
        <p:sp>
          <p:nvSpPr>
            <p:cNvPr id="572" name="Rectangle 78"/>
            <p:cNvSpPr/>
            <p:nvPr/>
          </p:nvSpPr>
          <p:spPr>
            <a:xfrm>
              <a:off x="586728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79"/>
            <p:cNvSpPr/>
            <p:nvPr/>
          </p:nvSpPr>
          <p:spPr>
            <a:xfrm>
              <a:off x="1916280" y="2340000"/>
              <a:ext cx="1066680" cy="6094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AutoShape 80"/>
            <p:cNvCxnSpPr>
              <a:stCxn id="573" idx="7"/>
              <a:endCxn id="508" idx="0"/>
            </p:cNvCxnSpPr>
            <p:nvPr/>
          </p:nvCxnSpPr>
          <p:spPr>
            <a:xfrm flipH="1" flipV="1" rot="5400000">
              <a:off x="4423680" y="806040"/>
              <a:ext cx="13680" cy="3207240"/>
            </a:xfrm>
            <a:prstGeom prst="curvedConnector5">
              <a:avLst>
                <a:gd name="adj1" fmla="val 2400000"/>
                <a:gd name="adj2" fmla="val 50000"/>
                <a:gd name="adj3" fmla="val 2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75" name="Rectangle 81"/>
            <p:cNvSpPr/>
            <p:nvPr/>
          </p:nvSpPr>
          <p:spPr>
            <a:xfrm>
              <a:off x="4859280" y="4076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82"/>
          <p:cNvGrpSpPr/>
          <p:nvPr/>
        </p:nvGrpSpPr>
        <p:grpSpPr>
          <a:xfrm>
            <a:off x="1839960" y="2035080"/>
            <a:ext cx="7057800" cy="2774880"/>
            <a:chOff x="1839960" y="2035080"/>
            <a:chExt cx="7057800" cy="2774880"/>
          </a:xfrm>
        </p:grpSpPr>
        <p:sp>
          <p:nvSpPr>
            <p:cNvPr id="577" name="Oval 83"/>
            <p:cNvSpPr/>
            <p:nvPr/>
          </p:nvSpPr>
          <p:spPr>
            <a:xfrm>
              <a:off x="1839960" y="2035080"/>
              <a:ext cx="1324080" cy="1425600"/>
            </a:xfrm>
            <a:prstGeom prst="ellipse">
              <a:avLst/>
            </a:pr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84"/>
            <p:cNvGrpSpPr/>
            <p:nvPr/>
          </p:nvGrpSpPr>
          <p:grpSpPr>
            <a:xfrm>
              <a:off x="2970360" y="3102120"/>
              <a:ext cx="5927400" cy="1707840"/>
              <a:chOff x="2970360" y="3102120"/>
              <a:chExt cx="5927400" cy="1707840"/>
            </a:xfrm>
          </p:grpSpPr>
          <p:sp>
            <p:nvSpPr>
              <p:cNvPr id="579" name="Rectangle 85"/>
              <p:cNvSpPr/>
              <p:nvPr/>
            </p:nvSpPr>
            <p:spPr>
              <a:xfrm>
                <a:off x="6441480" y="3102120"/>
                <a:ext cx="347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80" name="AutoShape 86"/>
              <p:cNvCxnSpPr>
                <a:stCxn id="577" idx="5"/>
                <a:endCxn id="537" idx="3"/>
              </p:cNvCxnSpPr>
              <p:nvPr/>
            </p:nvCxnSpPr>
            <p:spPr>
              <a:xfrm flipH="1" flipV="1" rot="5400000">
                <a:off x="4685040" y="1451520"/>
                <a:ext cx="99360" cy="3529440"/>
              </a:xfrm>
              <a:prstGeom prst="curvedConnector5">
                <a:avLst>
                  <a:gd name="adj1" fmla="val -430545"/>
                  <a:gd name="adj2" fmla="val 49994"/>
                  <a:gd name="adj3" fmla="val -430545"/>
                </a:avLst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</p:cxnSp>
          <p:sp>
            <p:nvSpPr>
              <p:cNvPr id="581" name="Rectangle 87"/>
              <p:cNvSpPr/>
              <p:nvPr/>
            </p:nvSpPr>
            <p:spPr>
              <a:xfrm>
                <a:off x="4859280" y="4508640"/>
                <a:ext cx="4038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= &lt;Sunny, Warm, ?, Strong, ?, ?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88"/>
          <p:cNvGrpSpPr/>
          <p:nvPr/>
        </p:nvGrpSpPr>
        <p:grpSpPr>
          <a:xfrm>
            <a:off x="4859280" y="2276640"/>
            <a:ext cx="4038480" cy="2317320"/>
            <a:chOff x="4859280" y="2276640"/>
            <a:chExt cx="4038480" cy="2317320"/>
          </a:xfrm>
        </p:grpSpPr>
        <p:sp>
          <p:nvSpPr>
            <p:cNvPr id="583" name="Rectangle 89"/>
            <p:cNvSpPr/>
            <p:nvPr/>
          </p:nvSpPr>
          <p:spPr>
            <a:xfrm>
              <a:off x="4859280" y="4292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90"/>
            <p:cNvSpPr/>
            <p:nvPr/>
          </p:nvSpPr>
          <p:spPr>
            <a:xfrm>
              <a:off x="622764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konsistente Hypoth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einer Menge von Trainingsdaten D eines Zielkbegriff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 dann wenn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für alle 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aus D g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sistent(h, D)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: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Versions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s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zu einem Hypothesenraum H und Trainingsbeispielen D ist die Teilmenge der Hypothesen aus H, die konsistent mit allen Trainingsdaten aus D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| konsistent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wir nicht nur an einer gültigen Lösung interessiert sind, dann ist der Versionsraum intere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539640" y="3716280"/>
            <a:ext cx="8076960" cy="2592720"/>
            <a:chOff x="539640" y="3716280"/>
            <a:chExt cx="8076960" cy="2592720"/>
          </a:xfrm>
        </p:grpSpPr>
        <p:grpSp>
          <p:nvGrpSpPr>
            <p:cNvPr id="588" name="Group 3"/>
            <p:cNvGrpSpPr/>
            <p:nvPr/>
          </p:nvGrpSpPr>
          <p:grpSpPr>
            <a:xfrm>
              <a:off x="539640" y="4020480"/>
              <a:ext cx="8076960" cy="1219320"/>
              <a:chOff x="539640" y="4020480"/>
              <a:chExt cx="8076960" cy="1219320"/>
            </a:xfrm>
          </p:grpSpPr>
          <p:sp>
            <p:nvSpPr>
              <p:cNvPr id="589" name="Rectangle 4"/>
              <p:cNvSpPr/>
              <p:nvPr/>
            </p:nvSpPr>
            <p:spPr>
              <a:xfrm>
                <a:off x="539640" y="485892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5"/>
              <p:cNvSpPr/>
              <p:nvPr/>
            </p:nvSpPr>
            <p:spPr>
              <a:xfrm>
                <a:off x="5396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6"/>
              <p:cNvSpPr/>
              <p:nvPr/>
            </p:nvSpPr>
            <p:spPr>
              <a:xfrm>
                <a:off x="32828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7"/>
              <p:cNvSpPr/>
              <p:nvPr/>
            </p:nvSpPr>
            <p:spPr>
              <a:xfrm>
                <a:off x="60260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93" name="AutoShape 8"/>
              <p:cNvCxnSpPr>
                <a:stCxn id="590" idx="0"/>
                <a:endCxn id="594" idx="2"/>
              </p:cNvCxnSpPr>
              <p:nvPr/>
            </p:nvCxnSpPr>
            <p:spPr>
              <a:xfrm flipV="1">
                <a:off x="183492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5" name="AutoShape 9"/>
              <p:cNvCxnSpPr>
                <a:stCxn id="591" idx="0"/>
                <a:endCxn id="594" idx="2"/>
              </p:cNvCxnSpPr>
              <p:nvPr/>
            </p:nvCxnSpPr>
            <p:spPr>
              <a:xfrm flipV="1">
                <a:off x="4577760" y="402048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6" name="AutoShape 10"/>
              <p:cNvCxnSpPr>
                <a:stCxn id="592" idx="0"/>
                <a:endCxn id="594" idx="2"/>
              </p:cNvCxnSpPr>
              <p:nvPr/>
            </p:nvCxnSpPr>
            <p:spPr>
              <a:xfrm flipH="1" flipV="1">
                <a:off x="457776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97" name="Group 11"/>
            <p:cNvGrpSpPr/>
            <p:nvPr/>
          </p:nvGrpSpPr>
          <p:grpSpPr>
            <a:xfrm>
              <a:off x="2795760" y="3716280"/>
              <a:ext cx="3078000" cy="368280"/>
              <a:chOff x="2795760" y="3716280"/>
              <a:chExt cx="3078000" cy="368280"/>
            </a:xfrm>
          </p:grpSpPr>
          <p:sp>
            <p:nvSpPr>
              <p:cNvPr id="594" name="Rectangle 12"/>
              <p:cNvSpPr/>
              <p:nvPr/>
            </p:nvSpPr>
            <p:spPr>
              <a:xfrm>
                <a:off x="3283200" y="371628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13"/>
              <p:cNvSpPr/>
              <p:nvPr/>
            </p:nvSpPr>
            <p:spPr>
              <a:xfrm>
                <a:off x="2795760" y="371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4"/>
            <p:cNvGrpSpPr/>
            <p:nvPr/>
          </p:nvGrpSpPr>
          <p:grpSpPr>
            <a:xfrm>
              <a:off x="1442520" y="5239800"/>
              <a:ext cx="5878440" cy="1069200"/>
              <a:chOff x="1442520" y="5239800"/>
              <a:chExt cx="5878440" cy="1069200"/>
            </a:xfrm>
          </p:grpSpPr>
          <p:sp>
            <p:nvSpPr>
              <p:cNvPr id="600" name="Rectangle 15"/>
              <p:cNvSpPr/>
              <p:nvPr/>
            </p:nvSpPr>
            <p:spPr>
              <a:xfrm>
                <a:off x="1442520" y="5940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Group 16"/>
              <p:cNvGrpSpPr/>
              <p:nvPr/>
            </p:nvGrpSpPr>
            <p:grpSpPr>
              <a:xfrm>
                <a:off x="1911240" y="6001920"/>
                <a:ext cx="5333400" cy="307080"/>
                <a:chOff x="1911240" y="6001920"/>
                <a:chExt cx="5333400" cy="307080"/>
              </a:xfrm>
            </p:grpSpPr>
            <p:sp>
              <p:nvSpPr>
                <p:cNvPr id="602" name="Rectangle 17"/>
                <p:cNvSpPr/>
                <p:nvPr/>
              </p:nvSpPr>
              <p:spPr>
                <a:xfrm>
                  <a:off x="1911240" y="6001920"/>
                  <a:ext cx="533340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Rectangle 18"/>
                <p:cNvSpPr/>
                <p:nvPr/>
              </p:nvSpPr>
              <p:spPr>
                <a:xfrm>
                  <a:off x="2436840" y="600192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19"/>
                <p:cNvSpPr/>
                <p:nvPr/>
              </p:nvSpPr>
              <p:spPr>
                <a:xfrm>
                  <a:off x="4723920" y="600192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05" name="AutoShape 20"/>
              <p:cNvCxnSpPr>
                <a:stCxn id="603" idx="0"/>
                <a:endCxn id="590" idx="2"/>
              </p:cNvCxnSpPr>
              <p:nvPr/>
            </p:nvCxnSpPr>
            <p:spPr>
              <a:xfrm flipH="1" flipV="1">
                <a:off x="1834200" y="5239800"/>
                <a:ext cx="154980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6" name="AutoShape 21"/>
              <p:cNvCxnSpPr>
                <a:stCxn id="603" idx="0"/>
                <a:endCxn id="591" idx="2"/>
              </p:cNvCxnSpPr>
              <p:nvPr/>
            </p:nvCxnSpPr>
            <p:spPr>
              <a:xfrm flipV="1">
                <a:off x="3384000" y="5239800"/>
                <a:ext cx="1194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7" name="AutoShape 22"/>
              <p:cNvCxnSpPr>
                <a:stCxn id="604" idx="0"/>
                <a:endCxn id="591" idx="2"/>
              </p:cNvCxnSpPr>
              <p:nvPr/>
            </p:nvCxnSpPr>
            <p:spPr>
              <a:xfrm flipH="1" flipV="1">
                <a:off x="4577400" y="5239800"/>
                <a:ext cx="10767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8" name="AutoShape 23"/>
              <p:cNvCxnSpPr>
                <a:stCxn id="604" idx="0"/>
                <a:endCxn id="592" idx="2"/>
              </p:cNvCxnSpPr>
              <p:nvPr/>
            </p:nvCxnSpPr>
            <p:spPr>
              <a:xfrm flipV="1">
                <a:off x="5654160" y="5239800"/>
                <a:ext cx="1667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Der List-Then-Eliminate 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94920" y="11966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Initialisierung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S := 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ist VS die Liste aller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rainingsbeispiele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sion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AL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ZE VS := VS\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Ausgabe des Versionsraums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324000" y="3860640"/>
            <a:ext cx="158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Repräsentierung des Versionsrau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 zum Version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ensichtlich gibt es am meisten spezifische und am meisten generelle Ve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, die “dazwischen” liegt, muss auch eine Lösung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Generell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generelle Schranke G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generell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mehr Elemente zum Begriff dazunimm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nimmt auch Fehl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Spezifisch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sche Schranke S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spezifisch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weniger Elemente im Begriff ha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em fehlen gültig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-Theor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920" y="13712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 des Versionsraums liegt zwischen S u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|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eis: Übung und/oder bei Mitchell nachscha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erst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ist auch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dann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iside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finition von G folg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entweder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oder es gibt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&gt;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kann man das gleiche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 fortfüh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H endlich ist, muß man irgendwann an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kommen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analog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Kandidateneliminations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1197000"/>
            <a:ext cx="896472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ali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= {&lt;?, … , ?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gener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= {&lt;Ø, … , Ø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spezi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 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rainingsbeispiele d=&lt;x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&gt;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posi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g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, die schon zu klein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s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S um alle minimalen Gener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1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unter der gener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gener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neag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s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, die schon zu groß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G um alle minimalen Spezi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0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über der spezi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spezi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-507960" y="2208960"/>
            <a:ext cx="4989600" cy="4140360"/>
            <a:chOff x="-507960" y="2208960"/>
            <a:chExt cx="4989600" cy="4140360"/>
          </a:xfrm>
        </p:grpSpPr>
        <p:grpSp>
          <p:nvGrpSpPr>
            <p:cNvPr id="619" name="Group 3"/>
            <p:cNvGrpSpPr/>
            <p:nvPr/>
          </p:nvGrpSpPr>
          <p:grpSpPr>
            <a:xfrm>
              <a:off x="-507960" y="2514600"/>
              <a:ext cx="4989600" cy="405720"/>
              <a:chOff x="-507960" y="2514600"/>
              <a:chExt cx="4989600" cy="405720"/>
            </a:xfrm>
          </p:grpSpPr>
          <p:sp>
            <p:nvSpPr>
              <p:cNvPr id="620" name="Rectangle 4"/>
              <p:cNvSpPr/>
              <p:nvPr/>
            </p:nvSpPr>
            <p:spPr>
              <a:xfrm>
                <a:off x="1042920" y="2514600"/>
                <a:ext cx="343872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5"/>
              <p:cNvSpPr/>
              <p:nvPr/>
            </p:nvSpPr>
            <p:spPr>
              <a:xfrm>
                <a:off x="-507960" y="2514600"/>
                <a:ext cx="1503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2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Rectangle 6"/>
            <p:cNvSpPr/>
            <p:nvPr/>
          </p:nvSpPr>
          <p:spPr>
            <a:xfrm>
              <a:off x="84744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AutoShape 7"/>
            <p:cNvCxnSpPr>
              <a:stCxn id="620" idx="0"/>
              <a:endCxn id="624" idx="2"/>
            </p:cNvCxnSpPr>
            <p:nvPr/>
          </p:nvCxnSpPr>
          <p:spPr>
            <a:xfrm flipV="1">
              <a:off x="2761920" y="22089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5" name="Group 8"/>
          <p:cNvGrpSpPr/>
          <p:nvPr/>
        </p:nvGrpSpPr>
        <p:grpSpPr>
          <a:xfrm>
            <a:off x="-380880" y="1143000"/>
            <a:ext cx="4438440" cy="5206320"/>
            <a:chOff x="-380880" y="1143000"/>
            <a:chExt cx="4438440" cy="5206320"/>
          </a:xfrm>
        </p:grpSpPr>
        <p:grpSp>
          <p:nvGrpSpPr>
            <p:cNvPr id="626" name="Group 9"/>
            <p:cNvGrpSpPr/>
            <p:nvPr/>
          </p:nvGrpSpPr>
          <p:grpSpPr>
            <a:xfrm>
              <a:off x="1034280" y="1143000"/>
              <a:ext cx="3023280" cy="405720"/>
              <a:chOff x="1034280" y="1143000"/>
              <a:chExt cx="3023280" cy="405720"/>
            </a:xfrm>
          </p:grpSpPr>
          <p:sp>
            <p:nvSpPr>
              <p:cNvPr id="627" name="Rectangle 10"/>
              <p:cNvSpPr/>
              <p:nvPr/>
            </p:nvSpPr>
            <p:spPr>
              <a:xfrm>
                <a:off x="1467000" y="1143000"/>
                <a:ext cx="2590560" cy="380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1"/>
              <p:cNvSpPr/>
              <p:nvPr/>
            </p:nvSpPr>
            <p:spPr>
              <a:xfrm>
                <a:off x="1034280" y="11430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12"/>
            <p:cNvGrpSpPr/>
            <p:nvPr/>
          </p:nvGrpSpPr>
          <p:grpSpPr>
            <a:xfrm>
              <a:off x="-380880" y="5943600"/>
              <a:ext cx="4417920" cy="405720"/>
              <a:chOff x="-380880" y="5943600"/>
              <a:chExt cx="4417920" cy="405720"/>
            </a:xfrm>
          </p:grpSpPr>
          <p:sp>
            <p:nvSpPr>
              <p:cNvPr id="630" name="Rectangle 13"/>
              <p:cNvSpPr/>
              <p:nvPr/>
            </p:nvSpPr>
            <p:spPr>
              <a:xfrm>
                <a:off x="1446120" y="5943600"/>
                <a:ext cx="25909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"/>
              <p:cNvSpPr/>
              <p:nvPr/>
            </p:nvSpPr>
            <p:spPr>
              <a:xfrm>
                <a:off x="-380880" y="5943600"/>
                <a:ext cx="123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15"/>
          <p:cNvSpPr/>
          <p:nvPr/>
        </p:nvSpPr>
        <p:spPr>
          <a:xfrm>
            <a:off x="4952880" y="10666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Normal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6"/>
          <p:cNvSpPr/>
          <p:nvPr/>
        </p:nvSpPr>
        <p:spPr>
          <a:xfrm>
            <a:off x="4952880" y="15238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7"/>
          <p:cNvSpPr/>
          <p:nvPr/>
        </p:nvSpPr>
        <p:spPr>
          <a:xfrm>
            <a:off x="4952880" y="19810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Rainy, Cold, High, Strong, Warm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8"/>
          <p:cNvSpPr/>
          <p:nvPr/>
        </p:nvSpPr>
        <p:spPr>
          <a:xfrm>
            <a:off x="4952880" y="24382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Cool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9"/>
          <p:cNvGrpSpPr/>
          <p:nvPr/>
        </p:nvGrpSpPr>
        <p:grpSpPr>
          <a:xfrm>
            <a:off x="38520" y="2514600"/>
            <a:ext cx="5905080" cy="3428640"/>
            <a:chOff x="38520" y="2514600"/>
            <a:chExt cx="5905080" cy="3428640"/>
          </a:xfrm>
        </p:grpSpPr>
        <p:sp>
          <p:nvSpPr>
            <p:cNvPr id="637" name="Rectangle 20"/>
            <p:cNvSpPr/>
            <p:nvPr/>
          </p:nvSpPr>
          <p:spPr>
            <a:xfrm>
              <a:off x="387360" y="2514600"/>
              <a:ext cx="60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S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21"/>
            <p:cNvGrpSpPr/>
            <p:nvPr/>
          </p:nvGrpSpPr>
          <p:grpSpPr>
            <a:xfrm>
              <a:off x="38520" y="5257800"/>
              <a:ext cx="5905080" cy="420120"/>
              <a:chOff x="38520" y="5257800"/>
              <a:chExt cx="5905080" cy="420120"/>
            </a:xfrm>
          </p:grpSpPr>
          <p:sp>
            <p:nvSpPr>
              <p:cNvPr id="639" name="Rectangle 22"/>
              <p:cNvSpPr/>
              <p:nvPr/>
            </p:nvSpPr>
            <p:spPr>
              <a:xfrm>
                <a:off x="457200" y="5257800"/>
                <a:ext cx="5486400" cy="3808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&lt;?, Warm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Same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3"/>
              <p:cNvSpPr/>
              <p:nvPr/>
            </p:nvSpPr>
            <p:spPr>
              <a:xfrm>
                <a:off x="38520" y="527220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1" name="AutoShape 24"/>
            <p:cNvCxnSpPr>
              <a:stCxn id="630" idx="0"/>
              <a:endCxn id="639" idx="2"/>
            </p:cNvCxnSpPr>
            <p:nvPr/>
          </p:nvCxnSpPr>
          <p:spPr>
            <a:xfrm flipV="1">
              <a:off x="2741760" y="5637960"/>
              <a:ext cx="4593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2" name="Group 25"/>
          <p:cNvGrpSpPr/>
          <p:nvPr/>
        </p:nvGrpSpPr>
        <p:grpSpPr>
          <a:xfrm>
            <a:off x="448920" y="3580560"/>
            <a:ext cx="7018560" cy="991440"/>
            <a:chOff x="448920" y="3580560"/>
            <a:chExt cx="7018560" cy="991440"/>
          </a:xfrm>
        </p:grpSpPr>
        <p:grpSp>
          <p:nvGrpSpPr>
            <p:cNvPr id="643" name="Group 26"/>
            <p:cNvGrpSpPr/>
            <p:nvPr/>
          </p:nvGrpSpPr>
          <p:grpSpPr>
            <a:xfrm>
              <a:off x="448920" y="3886200"/>
              <a:ext cx="7018560" cy="380880"/>
              <a:chOff x="448920" y="3886200"/>
              <a:chExt cx="7018560" cy="380880"/>
            </a:xfrm>
          </p:grpSpPr>
          <p:sp>
            <p:nvSpPr>
              <p:cNvPr id="644" name="Rectangle 27"/>
              <p:cNvSpPr/>
              <p:nvPr/>
            </p:nvSpPr>
            <p:spPr>
              <a:xfrm>
                <a:off x="457200" y="3886200"/>
                <a:ext cx="701028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8"/>
              <p:cNvSpPr/>
              <p:nvPr/>
            </p:nvSpPr>
            <p:spPr>
              <a:xfrm>
                <a:off x="448920" y="3886200"/>
                <a:ext cx="231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29"/>
              <p:cNvSpPr/>
              <p:nvPr/>
            </p:nvSpPr>
            <p:spPr>
              <a:xfrm>
                <a:off x="2812320" y="3886200"/>
                <a:ext cx="226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30"/>
              <p:cNvSpPr/>
              <p:nvPr/>
            </p:nvSpPr>
            <p:spPr>
              <a:xfrm>
                <a:off x="5174280" y="3886200"/>
                <a:ext cx="228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8" name="AutoShape 31"/>
            <p:cNvCxnSpPr>
              <a:stCxn id="649" idx="0"/>
              <a:endCxn id="645" idx="2"/>
            </p:cNvCxnSpPr>
            <p:nvPr/>
          </p:nvCxnSpPr>
          <p:spPr>
            <a:xfrm flipH="1" flipV="1">
              <a:off x="1607400" y="4190760"/>
              <a:ext cx="183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AutoShape 32"/>
            <p:cNvCxnSpPr>
              <a:stCxn id="649" idx="0"/>
              <a:endCxn id="646" idx="2"/>
            </p:cNvCxnSpPr>
            <p:nvPr/>
          </p:nvCxnSpPr>
          <p:spPr>
            <a:xfrm flipV="1">
              <a:off x="1625400" y="4190760"/>
              <a:ext cx="23216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AutoShape 33"/>
            <p:cNvCxnSpPr>
              <a:stCxn id="652" idx="0"/>
              <a:endCxn id="646" idx="2"/>
            </p:cNvCxnSpPr>
            <p:nvPr/>
          </p:nvCxnSpPr>
          <p:spPr>
            <a:xfrm flipV="1">
              <a:off x="3895560" y="4190760"/>
              <a:ext cx="518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34"/>
            <p:cNvCxnSpPr>
              <a:stCxn id="652" idx="0"/>
              <a:endCxn id="647" idx="2"/>
            </p:cNvCxnSpPr>
            <p:nvPr/>
          </p:nvCxnSpPr>
          <p:spPr>
            <a:xfrm flipV="1">
              <a:off x="3895560" y="4190760"/>
              <a:ext cx="24235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AutoShape 35"/>
            <p:cNvCxnSpPr>
              <a:stCxn id="645" idx="0"/>
              <a:endCxn id="655" idx="2"/>
            </p:cNvCxnSpPr>
            <p:nvPr/>
          </p:nvCxnSpPr>
          <p:spPr>
            <a:xfrm flipV="1">
              <a:off x="1608120" y="3580560"/>
              <a:ext cx="11548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AutoShape 36"/>
            <p:cNvCxnSpPr>
              <a:stCxn id="646" idx="0"/>
              <a:endCxn id="655" idx="2"/>
            </p:cNvCxnSpPr>
            <p:nvPr/>
          </p:nvCxnSpPr>
          <p:spPr>
            <a:xfrm flipH="1" flipV="1">
              <a:off x="2761920" y="3580560"/>
              <a:ext cx="1185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AutoShape 37"/>
            <p:cNvCxnSpPr>
              <a:stCxn id="647" idx="0"/>
              <a:endCxn id="655" idx="2"/>
            </p:cNvCxnSpPr>
            <p:nvPr/>
          </p:nvCxnSpPr>
          <p:spPr>
            <a:xfrm flipH="1" flipV="1">
              <a:off x="2761920" y="3580560"/>
              <a:ext cx="35568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8" name="Group 38"/>
          <p:cNvGrpSpPr/>
          <p:nvPr/>
        </p:nvGrpSpPr>
        <p:grpSpPr>
          <a:xfrm>
            <a:off x="235440" y="2894760"/>
            <a:ext cx="4717440" cy="2362680"/>
            <a:chOff x="235440" y="2894760"/>
            <a:chExt cx="4717440" cy="2362680"/>
          </a:xfrm>
        </p:grpSpPr>
        <p:grpSp>
          <p:nvGrpSpPr>
            <p:cNvPr id="659" name="Group 39"/>
            <p:cNvGrpSpPr/>
            <p:nvPr/>
          </p:nvGrpSpPr>
          <p:grpSpPr>
            <a:xfrm>
              <a:off x="577080" y="3200400"/>
              <a:ext cx="3904560" cy="405720"/>
              <a:chOff x="577080" y="3200400"/>
              <a:chExt cx="3904560" cy="405720"/>
            </a:xfrm>
          </p:grpSpPr>
          <p:sp>
            <p:nvSpPr>
              <p:cNvPr id="655" name="Rectangle 40"/>
              <p:cNvSpPr/>
              <p:nvPr/>
            </p:nvSpPr>
            <p:spPr>
              <a:xfrm>
                <a:off x="1042920" y="3200400"/>
                <a:ext cx="3438720" cy="380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?, ?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41"/>
              <p:cNvSpPr/>
              <p:nvPr/>
            </p:nvSpPr>
            <p:spPr>
              <a:xfrm>
                <a:off x="577080" y="32004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42"/>
            <p:cNvGrpSpPr/>
            <p:nvPr/>
          </p:nvGrpSpPr>
          <p:grpSpPr>
            <a:xfrm>
              <a:off x="235440" y="4510080"/>
              <a:ext cx="4717440" cy="582120"/>
              <a:chOff x="235440" y="4510080"/>
              <a:chExt cx="4717440" cy="582120"/>
            </a:xfrm>
          </p:grpSpPr>
          <p:sp>
            <p:nvSpPr>
              <p:cNvPr id="662" name="Rectangle 43"/>
              <p:cNvSpPr/>
              <p:nvPr/>
            </p:nvSpPr>
            <p:spPr>
              <a:xfrm>
                <a:off x="235440" y="451008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Group 44"/>
              <p:cNvGrpSpPr/>
              <p:nvPr/>
            </p:nvGrpSpPr>
            <p:grpSpPr>
              <a:xfrm>
                <a:off x="685800" y="4572000"/>
                <a:ext cx="4267080" cy="520200"/>
                <a:chOff x="685800" y="4572000"/>
                <a:chExt cx="4267080" cy="520200"/>
              </a:xfrm>
            </p:grpSpPr>
            <p:sp>
              <p:nvSpPr>
                <p:cNvPr id="664" name="Rectangle 45"/>
                <p:cNvSpPr/>
                <p:nvPr/>
              </p:nvSpPr>
              <p:spPr>
                <a:xfrm>
                  <a:off x="685800" y="4572000"/>
                  <a:ext cx="4267080" cy="38088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46"/>
                <p:cNvSpPr/>
                <p:nvPr/>
              </p:nvSpPr>
              <p:spPr>
                <a:xfrm>
                  <a:off x="685800" y="4572000"/>
                  <a:ext cx="18781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47"/>
                <p:cNvSpPr/>
                <p:nvPr/>
              </p:nvSpPr>
              <p:spPr>
                <a:xfrm>
                  <a:off x="2971800" y="4572000"/>
                  <a:ext cx="18478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65" name="AutoShape 48"/>
            <p:cNvCxnSpPr>
              <a:stCxn id="639" idx="0"/>
              <a:endCxn id="664" idx="2"/>
            </p:cNvCxnSpPr>
            <p:nvPr/>
          </p:nvCxnSpPr>
          <p:spPr>
            <a:xfrm flipH="1" flipV="1">
              <a:off x="2819160" y="4952160"/>
              <a:ext cx="3816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AutoShape 49"/>
            <p:cNvCxnSpPr>
              <a:stCxn id="655" idx="0"/>
              <a:endCxn id="620" idx="2"/>
            </p:cNvCxnSpPr>
            <p:nvPr/>
          </p:nvCxnSpPr>
          <p:spPr>
            <a:xfrm flipV="1">
              <a:off x="2761920" y="28947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7" name="Group 50"/>
          <p:cNvGrpSpPr/>
          <p:nvPr/>
        </p:nvGrpSpPr>
        <p:grpSpPr>
          <a:xfrm>
            <a:off x="314280" y="1523160"/>
            <a:ext cx="4410000" cy="4826160"/>
            <a:chOff x="314280" y="1523160"/>
            <a:chExt cx="4410000" cy="4826160"/>
          </a:xfrm>
        </p:grpSpPr>
        <p:grpSp>
          <p:nvGrpSpPr>
            <p:cNvPr id="668" name="Group 51"/>
            <p:cNvGrpSpPr/>
            <p:nvPr/>
          </p:nvGrpSpPr>
          <p:grpSpPr>
            <a:xfrm>
              <a:off x="367560" y="1828800"/>
              <a:ext cx="4356720" cy="405720"/>
              <a:chOff x="367560" y="1828800"/>
              <a:chExt cx="4356720" cy="405720"/>
            </a:xfrm>
          </p:grpSpPr>
          <p:sp>
            <p:nvSpPr>
              <p:cNvPr id="624" name="Rectangle 52"/>
              <p:cNvSpPr/>
              <p:nvPr/>
            </p:nvSpPr>
            <p:spPr>
              <a:xfrm>
                <a:off x="800280" y="1828800"/>
                <a:ext cx="392400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Normal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3"/>
              <p:cNvSpPr/>
              <p:nvPr/>
            </p:nvSpPr>
            <p:spPr>
              <a:xfrm>
                <a:off x="367560" y="1828800"/>
                <a:ext cx="479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1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Rectangle 54"/>
            <p:cNvSpPr/>
            <p:nvPr/>
          </p:nvSpPr>
          <p:spPr>
            <a:xfrm>
              <a:off x="31428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1" name="AutoShape 55"/>
            <p:cNvCxnSpPr>
              <a:stCxn id="624" idx="0"/>
              <a:endCxn id="627" idx="2"/>
            </p:cNvCxnSpPr>
            <p:nvPr/>
          </p:nvCxnSpPr>
          <p:spPr>
            <a:xfrm flipV="1">
              <a:off x="2761920" y="15231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lau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533520" y="1143000"/>
            <a:ext cx="8076960" cy="2592720"/>
            <a:chOff x="533520" y="1143000"/>
            <a:chExt cx="8076960" cy="2592720"/>
          </a:xfrm>
        </p:grpSpPr>
        <p:grpSp>
          <p:nvGrpSpPr>
            <p:cNvPr id="674" name="Group 3"/>
            <p:cNvGrpSpPr/>
            <p:nvPr/>
          </p:nvGrpSpPr>
          <p:grpSpPr>
            <a:xfrm>
              <a:off x="533520" y="1447200"/>
              <a:ext cx="8076960" cy="1219320"/>
              <a:chOff x="533520" y="1447200"/>
              <a:chExt cx="8076960" cy="1219320"/>
            </a:xfrm>
          </p:grpSpPr>
          <p:sp>
            <p:nvSpPr>
              <p:cNvPr id="675" name="Rectangle 4"/>
              <p:cNvSpPr/>
              <p:nvPr/>
            </p:nvSpPr>
            <p:spPr>
              <a:xfrm>
                <a:off x="533520" y="228564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5"/>
              <p:cNvSpPr/>
              <p:nvPr/>
            </p:nvSpPr>
            <p:spPr>
              <a:xfrm>
                <a:off x="5335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6"/>
              <p:cNvSpPr/>
              <p:nvPr/>
            </p:nvSpPr>
            <p:spPr>
              <a:xfrm>
                <a:off x="32767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7"/>
              <p:cNvSpPr/>
              <p:nvPr/>
            </p:nvSpPr>
            <p:spPr>
              <a:xfrm>
                <a:off x="60199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AutoShape 8"/>
              <p:cNvCxnSpPr>
                <a:stCxn id="676" idx="0"/>
                <a:endCxn id="680" idx="2"/>
              </p:cNvCxnSpPr>
              <p:nvPr/>
            </p:nvCxnSpPr>
            <p:spPr>
              <a:xfrm flipV="1">
                <a:off x="182880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1" name="AutoShape 9"/>
              <p:cNvCxnSpPr>
                <a:stCxn id="677" idx="0"/>
                <a:endCxn id="680" idx="2"/>
              </p:cNvCxnSpPr>
              <p:nvPr/>
            </p:nvCxnSpPr>
            <p:spPr>
              <a:xfrm flipV="1">
                <a:off x="4571640" y="144720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2" name="AutoShape 10"/>
              <p:cNvCxnSpPr>
                <a:stCxn id="678" idx="0"/>
                <a:endCxn id="680" idx="2"/>
              </p:cNvCxnSpPr>
              <p:nvPr/>
            </p:nvCxnSpPr>
            <p:spPr>
              <a:xfrm flipH="1" flipV="1">
                <a:off x="457164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83" name="Group 11"/>
            <p:cNvGrpSpPr/>
            <p:nvPr/>
          </p:nvGrpSpPr>
          <p:grpSpPr>
            <a:xfrm>
              <a:off x="2789280" y="1143000"/>
              <a:ext cx="3078000" cy="368280"/>
              <a:chOff x="2789280" y="1143000"/>
              <a:chExt cx="3078000" cy="368280"/>
            </a:xfrm>
          </p:grpSpPr>
          <p:sp>
            <p:nvSpPr>
              <p:cNvPr id="680" name="Rectangle 12"/>
              <p:cNvSpPr/>
              <p:nvPr/>
            </p:nvSpPr>
            <p:spPr>
              <a:xfrm>
                <a:off x="3276720" y="114300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3"/>
              <p:cNvSpPr/>
              <p:nvPr/>
            </p:nvSpPr>
            <p:spPr>
              <a:xfrm>
                <a:off x="2789280" y="1143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14"/>
            <p:cNvGrpSpPr/>
            <p:nvPr/>
          </p:nvGrpSpPr>
          <p:grpSpPr>
            <a:xfrm>
              <a:off x="1436400" y="2666520"/>
              <a:ext cx="5879160" cy="1069200"/>
              <a:chOff x="1436400" y="2666520"/>
              <a:chExt cx="5879160" cy="1069200"/>
            </a:xfrm>
          </p:grpSpPr>
          <p:sp>
            <p:nvSpPr>
              <p:cNvPr id="686" name="Rectangle 15"/>
              <p:cNvSpPr/>
              <p:nvPr/>
            </p:nvSpPr>
            <p:spPr>
              <a:xfrm>
                <a:off x="1436400" y="336672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16"/>
              <p:cNvGrpSpPr/>
              <p:nvPr/>
            </p:nvGrpSpPr>
            <p:grpSpPr>
              <a:xfrm>
                <a:off x="1905120" y="3428640"/>
                <a:ext cx="5333760" cy="307080"/>
                <a:chOff x="1905120" y="3428640"/>
                <a:chExt cx="5333760" cy="307080"/>
              </a:xfrm>
            </p:grpSpPr>
            <p:sp>
              <p:nvSpPr>
                <p:cNvPr id="688" name="Rectangle 17"/>
                <p:cNvSpPr/>
                <p:nvPr/>
              </p:nvSpPr>
              <p:spPr>
                <a:xfrm>
                  <a:off x="1905120" y="3428640"/>
                  <a:ext cx="533376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18"/>
                <p:cNvSpPr/>
                <p:nvPr/>
              </p:nvSpPr>
              <p:spPr>
                <a:xfrm>
                  <a:off x="2431440" y="342864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19"/>
                <p:cNvSpPr/>
                <p:nvPr/>
              </p:nvSpPr>
              <p:spPr>
                <a:xfrm>
                  <a:off x="4718160" y="342864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91" name="AutoShape 20"/>
              <p:cNvCxnSpPr>
                <a:stCxn id="689" idx="0"/>
                <a:endCxn id="676" idx="2"/>
              </p:cNvCxnSpPr>
              <p:nvPr/>
            </p:nvCxnSpPr>
            <p:spPr>
              <a:xfrm flipH="1" flipV="1">
                <a:off x="1828440" y="2666520"/>
                <a:ext cx="1550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2" name="AutoShape 21"/>
              <p:cNvCxnSpPr>
                <a:stCxn id="689" idx="0"/>
                <a:endCxn id="677" idx="2"/>
              </p:cNvCxnSpPr>
              <p:nvPr/>
            </p:nvCxnSpPr>
            <p:spPr>
              <a:xfrm flipV="1">
                <a:off x="3378240" y="2666520"/>
                <a:ext cx="119448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3" name="AutoShape 22"/>
              <p:cNvCxnSpPr>
                <a:stCxn id="690" idx="0"/>
                <a:endCxn id="677" idx="2"/>
              </p:cNvCxnSpPr>
              <p:nvPr/>
            </p:nvCxnSpPr>
            <p:spPr>
              <a:xfrm flipH="1" flipV="1">
                <a:off x="4571640" y="2666520"/>
                <a:ext cx="1077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4" name="AutoShape 23"/>
              <p:cNvCxnSpPr>
                <a:stCxn id="690" idx="0"/>
                <a:endCxn id="678" idx="2"/>
              </p:cNvCxnSpPr>
              <p:nvPr/>
            </p:nvCxnSpPr>
            <p:spPr>
              <a:xfrm flipV="1">
                <a:off x="5648400" y="2666520"/>
                <a:ext cx="16675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Was macht man mit dem Versionsraum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4920" y="3860280"/>
            <a:ext cx="8178840" cy="24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neue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Strong, Cool, Chan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Rai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re Entscheidungen, Mehrheiten, Unentschi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neuer Traini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al: solche, die den Versionsraum in zwei gleich große Teile tei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Generalisierung beim induktiven Lern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induktive Gener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ve 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Strong, Cool, Chang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Light, Warm, Sam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folgertes 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?, ?, 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rechtfertigt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&lt;Sunny, Warm, Normal, Strong, Warm, S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gibt es ausreichende Informationen für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duktive Bi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as (engl.) – Vorliebe, Voreingenommenheit, Befangenheit, systematischer Fehle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uktiver B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der möglichen Hypothesen beschränkt die möglichen Lösung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äher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Klassifizierung neuer Beispiele kann der Versionsraum zur Mehrheitsentscheidung genutzt werden, oder nur eindeutige Entscheidungen getroffen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duktive Bias beschreibt alle Grundannahmen, die in dem Lern- und Klassifikationsverfahren ste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hne induktiven Bias gibt es keine Generalisieru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automatische Fahrzeugnavig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71600"/>
            <a:ext cx="64962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 selbständige Fahrzeuge in z.T. unbekannten Umge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zu lernende Teil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ung und Akto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tuationserk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nung und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\begin{figure}&#10;\setlength{\epsfxsize}{10cm} \centerline{\epsffile{./nomad.eps}}&#10;\end{figure}"/>
          <p:cNvPicPr/>
          <p:nvPr/>
        </p:nvPicPr>
        <p:blipFill>
          <a:blip r:embed="rId1"/>
          <a:srcRect l="3117" t="0" r="0" b="0"/>
          <a:stretch/>
        </p:blipFill>
        <p:spPr>
          <a:xfrm>
            <a:off x="6877080" y="765000"/>
            <a:ext cx="2266920" cy="163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\begin{figure}&#10;\setlength{\epsfxsize}{15cm} \epsffile{./ugv.eps}\end{figure}"/>
          <p:cNvPicPr/>
          <p:nvPr/>
        </p:nvPicPr>
        <p:blipFill>
          <a:blip r:embed="rId2"/>
          <a:srcRect l="44733" t="0" r="0" b="0"/>
          <a:stretch/>
        </p:blipFill>
        <p:spPr>
          <a:xfrm>
            <a:off x="6362640" y="4021200"/>
            <a:ext cx="2781360" cy="283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\begin{figure}&#10;\setlength{\epsfxsize}{7cm} \centerline{\epsffile{./demeter.eps}}\end{figure}"/>
          <p:cNvPicPr/>
          <p:nvPr/>
        </p:nvPicPr>
        <p:blipFill>
          <a:blip r:embed="rId3"/>
          <a:srcRect l="1591" t="4244" r="0" b="0"/>
          <a:stretch/>
        </p:blipFill>
        <p:spPr>
          <a:xfrm>
            <a:off x="6877080" y="2349360"/>
            <a:ext cx="226692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ktoren"/>
          <p:cNvPicPr/>
          <p:nvPr/>
        </p:nvPicPr>
        <p:blipFill>
          <a:blip r:embed="rId4"/>
          <a:srcRect l="16328" t="23516" r="1730" b="0"/>
          <a:stretch/>
        </p:blipFill>
        <p:spPr>
          <a:xfrm>
            <a:off x="2987640" y="4753080"/>
            <a:ext cx="338472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rcRect l="17073" t="0" r="0" b="0"/>
          <a:stretch/>
        </p:blipFill>
        <p:spPr>
          <a:xfrm>
            <a:off x="0" y="4748040"/>
            <a:ext cx="298764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sher hatte H einen induktive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onjunktionen (Und-Verknüpfung) und “Egal “ = “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Begriffe können damit nicht erfass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ohn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le ein H’, das alle möglichen Begriffe erfas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heißt, H’ ist die Potenzmenge vo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’ erlaubt neben Konjunktionen auch Disjunktionen (Oder) und Nega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inne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, al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‘|=|X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ogegen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| = (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+1 = 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Schranken S, G und der Versionsraum bei H’ au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merkung: Die Schranken und der Versionsraum beschreiben die  verbliebene Unsicherheit des Lernverfahr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’ ist die Disjunktion aller posi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spezifischste Konzept besteht aus gerade den beobachteten bisherigen positiven Beispi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’ ist die Negation der Konjunktion aller nega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generellste Konzept hat keines der negativen Beispiele drin, aber alle and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induktiven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H’ entspricht je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Teilmenge vo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ersionsraum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teht aus allen Teilmengen von X, die zwisch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liegen: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{h |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kann man mit S’ und G’ ein neues x bewe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spannt alle mit den Trainingsbeispielen konsistente Konzepte zwischen S’ und G’ au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heitsentscheid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 neu ist, dann ist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und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e konsistente Hypothese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.h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\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: Es gibt genauso viele konsistente Hypothesen dafür, dass x positiv ist, wie dafür dass x negativ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 immer unentschied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hne Bias/Annahmen kann man überhaupt nicht generalisier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n nur bekannte Beispiele bew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nur Speichern und nicht Ler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duktiver Bias – formale Sich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einer formalen Definition für den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us zum Lernen von Begriff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zen X und 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D = {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(x, D) = Klassifikation von x durch den Lerner L nach Training mi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induktive Bias des Lerners L ist jede minimale Menge von Bedingungen B über die Zielfunktion, so dass für jeder Begriff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zugehöriger Trainingsmenge D gi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: ((B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)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(x, D)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bei A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 bedeutet, B aus A logisch folgerbar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man bevorzugt bestimmte Hypothesen durch strukturelle Einschrän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egebene Annahmen über den zu lernenden Beg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durch Ermöglichung von Generalis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352680" y="1042920"/>
            <a:ext cx="2362320" cy="2233440"/>
            <a:chOff x="3352680" y="1042920"/>
            <a:chExt cx="2362320" cy="2233440"/>
          </a:xfrm>
        </p:grpSpPr>
        <p:sp>
          <p:nvSpPr>
            <p:cNvPr id="708" name="Rectangle 3"/>
            <p:cNvSpPr/>
            <p:nvPr/>
          </p:nvSpPr>
          <p:spPr>
            <a:xfrm>
              <a:off x="3352680" y="1447560"/>
              <a:ext cx="2362320" cy="1828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.B. Kandidaten-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limina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Hypothesenraum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"/>
            <p:cNvSpPr/>
            <p:nvPr/>
          </p:nvSpPr>
          <p:spPr>
            <a:xfrm>
              <a:off x="3466080" y="104292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duktiv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"/>
          <p:cNvGrpSpPr/>
          <p:nvPr/>
        </p:nvGrpSpPr>
        <p:grpSpPr>
          <a:xfrm>
            <a:off x="2487600" y="3716280"/>
            <a:ext cx="4114080" cy="2233800"/>
            <a:chOff x="2487600" y="3716280"/>
            <a:chExt cx="4114080" cy="2233800"/>
          </a:xfrm>
        </p:grpSpPr>
        <p:sp>
          <p:nvSpPr>
            <p:cNvPr id="711" name="Rectangle 6"/>
            <p:cNvSpPr/>
            <p:nvPr/>
          </p:nvSpPr>
          <p:spPr>
            <a:xfrm>
              <a:off x="3327120" y="4121280"/>
              <a:ext cx="236232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heorembewe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7"/>
            <p:cNvSpPr/>
            <p:nvPr/>
          </p:nvSpPr>
          <p:spPr>
            <a:xfrm>
              <a:off x="2487600" y="3716280"/>
              <a:ext cx="41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tsprechendes Deduktives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8"/>
          <p:cNvGrpSpPr/>
          <p:nvPr/>
        </p:nvGrpSpPr>
        <p:grpSpPr>
          <a:xfrm>
            <a:off x="588960" y="1600200"/>
            <a:ext cx="2763720" cy="1143000"/>
            <a:chOff x="588960" y="1600200"/>
            <a:chExt cx="2763720" cy="1143000"/>
          </a:xfrm>
        </p:grpSpPr>
        <p:sp>
          <p:nvSpPr>
            <p:cNvPr id="714" name="Line 9"/>
            <p:cNvSpPr/>
            <p:nvPr/>
          </p:nvSpPr>
          <p:spPr>
            <a:xfrm>
              <a:off x="1295280" y="198144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0"/>
            <p:cNvSpPr/>
            <p:nvPr/>
          </p:nvSpPr>
          <p:spPr>
            <a:xfrm>
              <a:off x="1295280" y="27432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1"/>
            <p:cNvSpPr/>
            <p:nvPr/>
          </p:nvSpPr>
          <p:spPr>
            <a:xfrm>
              <a:off x="610560" y="1600200"/>
              <a:ext cx="21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2"/>
            <p:cNvSpPr/>
            <p:nvPr/>
          </p:nvSpPr>
          <p:spPr>
            <a:xfrm>
              <a:off x="588960" y="233064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13"/>
          <p:cNvGrpSpPr/>
          <p:nvPr/>
        </p:nvGrpSpPr>
        <p:grpSpPr>
          <a:xfrm>
            <a:off x="526320" y="4005360"/>
            <a:ext cx="2813760" cy="1709640"/>
            <a:chOff x="526320" y="4005360"/>
            <a:chExt cx="2813760" cy="1709640"/>
          </a:xfrm>
        </p:grpSpPr>
        <p:sp>
          <p:nvSpPr>
            <p:cNvPr id="719" name="Line 14"/>
            <p:cNvSpPr/>
            <p:nvPr/>
          </p:nvSpPr>
          <p:spPr>
            <a:xfrm>
              <a:off x="1282680" y="43434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>
              <a:off x="1282680" y="506088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6"/>
            <p:cNvSpPr/>
            <p:nvPr/>
          </p:nvSpPr>
          <p:spPr>
            <a:xfrm>
              <a:off x="689040" y="4005360"/>
              <a:ext cx="195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7"/>
            <p:cNvSpPr/>
            <p:nvPr/>
          </p:nvSpPr>
          <p:spPr>
            <a:xfrm>
              <a:off x="584280" y="464832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8"/>
            <p:cNvSpPr/>
            <p:nvPr/>
          </p:nvSpPr>
          <p:spPr>
            <a:xfrm>
              <a:off x="1282680" y="57150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9"/>
            <p:cNvSpPr/>
            <p:nvPr/>
          </p:nvSpPr>
          <p:spPr>
            <a:xfrm>
              <a:off x="526320" y="5299200"/>
              <a:ext cx="22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dingungen {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20"/>
          <p:cNvGrpSpPr/>
          <p:nvPr/>
        </p:nvGrpSpPr>
        <p:grpSpPr>
          <a:xfrm>
            <a:off x="392040" y="5715000"/>
            <a:ext cx="2264040" cy="929880"/>
            <a:chOff x="392040" y="5715000"/>
            <a:chExt cx="2264040" cy="929880"/>
          </a:xfrm>
        </p:grpSpPr>
        <p:sp>
          <p:nvSpPr>
            <p:cNvPr id="726" name="Rectangle 21"/>
            <p:cNvSpPr/>
            <p:nvPr/>
          </p:nvSpPr>
          <p:spPr>
            <a:xfrm>
              <a:off x="392040" y="6064200"/>
              <a:ext cx="226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Explizite Angabe d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Induktiven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22"/>
            <p:cNvSpPr/>
            <p:nvPr/>
          </p:nvSpPr>
          <p:spPr>
            <a:xfrm flipV="1">
              <a:off x="1600200" y="5715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23"/>
          <p:cNvGrpSpPr/>
          <p:nvPr/>
        </p:nvGrpSpPr>
        <p:grpSpPr>
          <a:xfrm>
            <a:off x="5715000" y="1704960"/>
            <a:ext cx="3183840" cy="657360"/>
            <a:chOff x="5715000" y="1704960"/>
            <a:chExt cx="3183840" cy="657360"/>
          </a:xfrm>
        </p:grpSpPr>
        <p:sp>
          <p:nvSpPr>
            <p:cNvPr id="729" name="Line 24"/>
            <p:cNvSpPr/>
            <p:nvPr/>
          </p:nvSpPr>
          <p:spPr>
            <a:xfrm>
              <a:off x="5715000" y="23623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5"/>
            <p:cNvSpPr/>
            <p:nvPr/>
          </p:nvSpPr>
          <p:spPr>
            <a:xfrm>
              <a:off x="5802840" y="17049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26"/>
          <p:cNvGrpSpPr/>
          <p:nvPr/>
        </p:nvGrpSpPr>
        <p:grpSpPr>
          <a:xfrm>
            <a:off x="5715000" y="4219560"/>
            <a:ext cx="3180600" cy="657360"/>
            <a:chOff x="5715000" y="4219560"/>
            <a:chExt cx="3180600" cy="657360"/>
          </a:xfrm>
        </p:grpSpPr>
        <p:sp>
          <p:nvSpPr>
            <p:cNvPr id="732" name="Line 27"/>
            <p:cNvSpPr/>
            <p:nvPr/>
          </p:nvSpPr>
          <p:spPr>
            <a:xfrm>
              <a:off x="5715000" y="48769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8"/>
            <p:cNvSpPr/>
            <p:nvPr/>
          </p:nvSpPr>
          <p:spPr>
            <a:xfrm>
              <a:off x="5799600" y="42195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on vs. Dedu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r mit unterschiedlichem Bia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6840" y="1371600"/>
            <a:ext cx="81788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r ohne Bias, “Auswendiglern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lassifizierung von vorher Gesehen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nur solche x klassifizieren, die schon gesehen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Schranken für Generalisierungen und Spezialisi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 genau dann, wenn es im Versionsraum liegt und alle Versionen in der Bewertung überein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didateneliminationsalgorithmus mit Mehrheitsentschei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heit der Konzepte in H wird recht h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, wenn es eine mehrheitliche Klassifikation der Versionen gibt (z.B. mehr als 7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 sind implizit statistische Annahmen vorhanden, wie repräsentativ die Trainingsbeispiele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die spezifischste Hypothese g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izite Annahme: alle noch nicht bekannten Beispiele sind negat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ziert x anhand von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Zusammenfassung einiger Begriff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0" y="108576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wacht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riff - teilt X in zugehörige und nicht zugehörige (also +/-)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– die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die jeder Eingabe eine Bewertung zuordnet (z.B. Konzeptzugehörigk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– Vorschlag für eine Funktion, die mutmaßlich ähnlich zu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– Menge aller möglichen Hypothesen, die das Lernsystem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– Paare der Form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ifikation – Funktionen mit diskreten Werten, die Klassen be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-Algorit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en: Find-S, List-Then-Eliminate, Kandidateneli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e Hypothesen – solche, die zu allen beobachteten Beispielen p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– Menge aller aktuell konsisten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ve Generalisierung – Verfahren, welches Hypothesen generiert, die auch Fälle bewerten, die noch nicht bekannt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n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widersprüchlichen Daten, kein Rauschen, keine F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 Hypothesenraum, da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usreichend annäh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4000" y="1066680"/>
            <a:ext cx="9036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lernen ist eine Suche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nraum H ist der Such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entspricht Suchen und Finden der richtigen Hypo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ypothesenraum kann geordnet werden (generell-spezif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ore-general-than Relation ist eine partielle 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hat eine obere und unter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und G Schranken beschreiben die Unsicherheit der Le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 kann genutzt werden, um Vorhersagen für neue Beispiele zu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fahren kann genutzt werden, um Beispiele auszu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s Beispiel muss nur einmal gezeig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r Ansatz vs. deduktiver An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riff des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mit unterschiedlich hohem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33520" y="1371240"/>
            <a:ext cx="49068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ine Learning, Tom Mitchell, McGraw Hill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Neural Networks - A Systematic Introduction", Raul Rojas, Springer-Verlag, Berlin, 19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Theorie der neuronalen Netze", Raul Rojas, Springer-Verlag, Berlin, 1993/99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4" descr="The image “http://images.amazon.com/images/G/covers/0/07/042/807/0070428077.l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508720" y="260280"/>
            <a:ext cx="1817640" cy="27241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The image “http://page.mi.fu-berlin.de/~rojas/neural-1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7134120" y="1844640"/>
            <a:ext cx="2009880" cy="30560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The image “http://page.mi.fu-berlin.de/~rojas/neural-2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5867280" y="3357720"/>
            <a:ext cx="1881360" cy="28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eitere Lern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bä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s Schließ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371240"/>
            <a:ext cx="6567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kgammon, Schach, Mühle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utes „Spielfeld“ für neue 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ypische Domäne von Men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TD-Gammon nutzt temporal difference (TD) Algorithmen und trainiert, während es mit sich selbst spi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m Treffen der American Association of Artificial Intelligence wurde 1998 ein Großmeister (der damalige Weltmeister) in 99 von 100 Spielen von einer Maschine besi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HESS"/>
          <p:cNvPicPr/>
          <p:nvPr/>
        </p:nvPicPr>
        <p:blipFill>
          <a:blip r:embed="rId1"/>
          <a:stretch/>
        </p:blipFill>
        <p:spPr>
          <a:xfrm>
            <a:off x="7054920" y="62064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heckers"/>
          <p:cNvPicPr/>
          <p:nvPr/>
        </p:nvPicPr>
        <p:blipFill>
          <a:blip r:embed="rId2"/>
          <a:stretch/>
        </p:blipFill>
        <p:spPr>
          <a:xfrm>
            <a:off x="7020000" y="473400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Gart"/>
          <p:cNvPicPr/>
          <p:nvPr/>
        </p:nvPicPr>
        <p:blipFill>
          <a:blip r:embed="rId3"/>
          <a:srcRect l="9207" t="0" r="8215" b="0"/>
          <a:stretch/>
        </p:blipFill>
        <p:spPr>
          <a:xfrm>
            <a:off x="7020000" y="2781360"/>
            <a:ext cx="2124000" cy="18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ro_mark_left"/>
          <p:cNvPicPr/>
          <p:nvPr/>
        </p:nvPicPr>
        <p:blipFill>
          <a:blip r:embed="rId1"/>
          <a:srcRect l="0" t="10529" r="0" b="3510"/>
          <a:stretch/>
        </p:blipFill>
        <p:spPr>
          <a:xfrm>
            <a:off x="1447920" y="3581280"/>
            <a:ext cx="3065400" cy="327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rcRect l="8045" t="9462" r="11636" b="7284"/>
          <a:stretch/>
        </p:blipFill>
        <p:spPr>
          <a:xfrm>
            <a:off x="228600" y="8380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Handschriftenerkennu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43400" y="1371240"/>
            <a:ext cx="464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ennen von handgeschriebenen Zeichen hat bis 1995 sehr schlecht funktion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nstliche Neuronale Netze haben dies im Apple Newton wesentlich verbessert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...vastly improved hand-writing recognition...” (BYTE May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3: Die aktuelle Version von Mac OS besitzt eine integrierte Unterstützung für Stifteingabe, die auf der Schrifterkennung des Newton bas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rum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Möglichkeiten mit Compu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ße Datenmengen können gesammelt, gespeichert und verarbei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Mining: Extraktion von Wissen aus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bst-adaptierende Programme/Filter: Anpassung an Nutzer und Situ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onslernen: Robotik, Steuerungen, Unterstützung bei Entschei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, z.B.: Sprachverarbeitung, Fahrzeugsteu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gnitionswissenschaften: Theorien des Wissenserwerbs (z.B. durch Üb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Umsetzung: in Lernsysteme, Recommender System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schinelles Lernen ist im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te Fortschritte bei Algorithmen und Th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 Datenmengen, die automatisch verarbeitet werden mü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ügbare Rechen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r Markt und Industrie für Nutzung des maschinellen Lernens (z.B. Data Mining, Sprachsysteme, Bioinfor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ozu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sfe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ining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raktion von Wissen aus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bst-adaptierende Programme/Filt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sche Anpassung an Nutzer und Situ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lern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botik, Steuerungen, Unterstützung bei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verarbeitung, Fahrzeugsteu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gnitionswissenschaft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orien des Wissenserwerbs (z.B. durch Üb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Umsetzung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Lernsysteme, Recommender Syste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pezifikation von Lernproble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en = Verbesserung der Leistung eine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einer Aufgabe 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Bezug auf ein Leistungsmaß/eine Zielfunktion 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erend auf der vorhergehenden Erfahrung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chach sp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: spiele Schach und gewi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: Prozentsatz der gewonnenen Spiele in der ersten L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: Möglichkeit, gegen sich selbst zu 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lösende F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genau soll die Erfahrung gesammel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genau soll eigentlich gelern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wird das Gelernte repräsenti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r Lernalgorithmus soll angewand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1:34:58Z</dcterms:created>
  <dc:creator>ulla, Rainer Malaka, Ulrich Scholz</dc:creator>
  <dc:description/>
  <dc:language>en-US</dc:language>
  <cp:lastModifiedBy>Sebastian Rudolph</cp:lastModifiedBy>
  <cp:lastPrinted>2000-10-25T10:09:24Z</cp:lastPrinted>
  <dcterms:modified xsi:type="dcterms:W3CDTF">2008-05-21T08:10:03Z</dcterms:modified>
  <cp:revision>339</cp:revision>
  <dc:subject>Maschinelles Lernen</dc:subject>
  <dc:title>Einführung in die Künstliche Intelligen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